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wmf" ContentType="image/x-wmf"/>
  <Override PartName="/ppt/media/type.wav" ContentType="audio/x-wav"/>
  <Override PartName="/ppt/media/drumroll.wav" ContentType="audio/x-wav"/>
  <Override PartName="/ppt/media/image3.wmf" ContentType="image/x-wmf"/>
  <Override PartName="/ppt/media/image2.wmf" ContentType="image/x-wmf"/>
  <Override PartName="/ppt/media/camera.wav" ContentType="audio/x-wav"/>
  <Override PartName="/ppt/media/projctor.wav" ContentType="audio/x-wav"/>
  <Override PartName="/ppt/media/driveby.wav" ContentType="audio/x-wav"/>
  <Override PartName="/ppt/media/cashreg.wav" ContentType="audio/x-wav"/>
  <Override PartName="/ppt/media/gunshot.wav" ContentType="audio/x-wav"/>
  <Override PartName="/ppt/media/image11.wmf" ContentType="image/x-wmf"/>
  <Override PartName="/ppt/media/chimes.wav" ContentType="audio/x-wav"/>
  <Override PartName="/ppt/media/image10.wmf" ContentType="image/x-wmf"/>
  <Override PartName="/ppt/media/image6.png" ContentType="image/png"/>
  <Override PartName="/ppt/media/explode.wav" ContentType="audio/x-wav"/>
  <Override PartName="/ppt/media/image9.wmf" ContentType="image/x-wmf"/>
  <Override PartName="/ppt/media/image7.wmf" ContentType="image/x-wmf"/>
  <Override PartName="/ppt/media/laser.wav" ContentType="audio/x-wav"/>
  <Override PartName="/ppt/media/image8.jpeg" ContentType="image/jpeg"/>
  <Override PartName="/ppt/media/whoosh.wav" ContentType="audio/x-wav"/>
  <Override PartName="/ppt/media/image5.wmf" ContentType="image/x-wmf"/>
  <Override PartName="/ppt/media/applause.wav" ContentType="audio/x-wav"/>
  <Override PartName="/ppt/media/glass.wav" ContentType="audio/x-wav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E12-0552-43F6-A5D0-79257916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886-CE88-451B-BEFD-98170E49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2C1-CE86-4A19-98FA-BF638607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EF4-FAA0-43A3-8BB6-A091B9F5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FD4-A4EF-47A2-8095-724B4467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49A-C3FA-4D42-B158-0F749AA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BB8-FFB9-46F4-AB6B-D3A069D1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E99-4B83-4016-9FE7-BD32C841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F88-9103-40D6-887E-AE90F0FC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9C1-9991-4D0C-9920-73C0A65E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D36-3BF0-48B6-8FA7-7F9BF62E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66A-BCCF-4C4C-8757-D40CDEE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20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3534-EB4C-48D8-90DA-067F480B164B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rbrake.wav"/><Relationship Id="rId5" Type="http://schemas.openxmlformats.org/officeDocument/2006/relationships/audio" Target="../media/laser.wav"/><Relationship Id="rId6" Type="http://schemas.openxmlformats.org/officeDocument/2006/relationships/audio" Target="../media/carbrake.wav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1295280"/>
            <a:ext cx="8686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شارات وعلامات المرور</a:t>
            </a:r>
            <a:endParaRPr b="0" lang="en-US" sz="2400" spc="1" strike="noStrike">
              <a:ln w="1908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6098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</a:rPr>
              <a:t>اعبر الشارع بخطى سر يعه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548640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زياد غير الحَذ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قال فهيم: عندما كنت ذاهباً الى المدرسة, رأيت صديقي زياد, ينزل فجأة من الرصيف ويقطع الشارع ليذهب الى الدكان, ويشتري دفتراً, لم ينظر يساراً ويميناً وكانت سيارةُ اتيةً, فصدمته ونقل الى المستشف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ختار الجواب الصحي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صدمت السيارة زياد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) في المساء     ب) في الصباح         ج)عند الظ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904760" y="167652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لى اللق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16462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143000"/>
            <a:ext cx="8381880" cy="19227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ff6600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33cc33"/>
                </a:solidFill>
                <a:latin typeface="Times New Roman"/>
              </a:rPr>
              <a:t>ت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ع</a:t>
            </a:r>
            <a:r>
              <a:rPr b="1" lang="ar-SA" sz="6000" spc="-1" strike="noStrike">
                <a:solidFill>
                  <a:srgbClr val="ff6600"/>
                </a:solidFill>
                <a:latin typeface="Times New Roman"/>
              </a:rPr>
              <a:t>ر</a:t>
            </a:r>
            <a:r>
              <a:rPr b="1" lang="ar-SA" sz="6000" spc="-1" strike="noStrike">
                <a:solidFill>
                  <a:srgbClr val="33cc33"/>
                </a:solidFill>
                <a:latin typeface="Times New Roman"/>
              </a:rPr>
              <a:t>ف</a:t>
            </a: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ع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33cc33"/>
                </a:solidFill>
                <a:latin typeface="Times New Roman"/>
              </a:rPr>
              <a:t>ى</a:t>
            </a: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ش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ر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ا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م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ر</a:t>
            </a:r>
            <a:r>
              <a:rPr b="1" lang="ar-SA" sz="6000" spc="-1" strike="noStrike">
                <a:solidFill>
                  <a:srgbClr val="cc0000"/>
                </a:solidFill>
                <a:latin typeface="Times New Roman"/>
              </a:rPr>
              <a:t>و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868680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شارات تحذير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ثلثة الشكل,بحيث يتجه راس المثلث الى اعلى . يظهر التحذير في جميع هذه الاشارات من خلال رسمة في داخل المثلث الاحمر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شارات توجي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680" y="23623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نقسم هذه الاشارات الى قسمين رئيسيين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شارات الحمراء والتي تعني ( لا تفعل ) ب) الاشارات الزرقاء والتي تعني ( افعل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شارات اعلاميه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ون هذه الاشارات ازرق , اخضر, ابيض او اصفر . مربعة الشكل والهدف منها ايصال معلوم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قوانين العبور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Times New Roman"/>
              </a:rPr>
              <a:t>قف قبل ان تعبر الشار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66688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 flipV="1">
            <a:off x="0" y="62478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</a:rPr>
              <a:t>انظر الى جميع الجهات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8153280" cy="38862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انصت لاصوات حركة السير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33376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814320" cy="685800"/>
          </a:xfrm>
          <a:custGeom>
            <a:avLst/>
            <a:gdLst>
              <a:gd name="textAreaLeft" fmla="*/ 44280 w 814320"/>
              <a:gd name="textAreaRight" fmla="*/ 770040 w 814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5646" h="21600">
                <a:moveTo>
                  <a:pt x="0" y="0"/>
                </a:moveTo>
                <a:lnTo>
                  <a:pt x="25646" y="0"/>
                </a:lnTo>
                <a:lnTo>
                  <a:pt x="25646" y="21600"/>
                </a:lnTo>
                <a:lnTo>
                  <a:pt x="0" y="21600"/>
                </a:lnTo>
                <a:close/>
              </a:path>
              <a:path fill="lightenLess" w="25646" h="21600">
                <a:moveTo>
                  <a:pt x="0" y="0"/>
                </a:moveTo>
                <a:lnTo>
                  <a:pt x="25646" y="0"/>
                </a:lnTo>
                <a:lnTo>
                  <a:pt x="24246" y="1400"/>
                </a:lnTo>
                <a:lnTo>
                  <a:pt x="1400" y="1400"/>
                </a:lnTo>
                <a:close/>
              </a:path>
              <a:path fill="darken" w="25646" h="21600">
                <a:moveTo>
                  <a:pt x="25646" y="0"/>
                </a:moveTo>
                <a:lnTo>
                  <a:pt x="25646" y="21600"/>
                </a:lnTo>
                <a:lnTo>
                  <a:pt x="24246" y="20200"/>
                </a:lnTo>
                <a:lnTo>
                  <a:pt x="24246" y="1400"/>
                </a:lnTo>
                <a:close/>
              </a:path>
              <a:path fill="darkenLess" w="25646" h="21600">
                <a:moveTo>
                  <a:pt x="25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6" y="20200"/>
                </a:lnTo>
                <a:close/>
              </a:path>
              <a:path fill="lighten" w="25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6" h="21600">
                <a:moveTo>
                  <a:pt x="5816" y="3794"/>
                </a:moveTo>
                <a:lnTo>
                  <a:pt x="19829" y="10800"/>
                </a:lnTo>
                <a:lnTo>
                  <a:pt x="581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عبر الشارع بخط مستقيم وسري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8672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10800"/>
                </a:moveTo>
                <a:lnTo>
                  <a:pt x="18882" y="3794"/>
                </a:lnTo>
                <a:lnTo>
                  <a:pt x="188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i_e</cp:lastModifiedBy>
  <dcterms:modified xsi:type="dcterms:W3CDTF">2005-02-15T08:55:58Z</dcterms:modified>
  <cp:revision>3</cp:revision>
  <dc:subject/>
  <dc:title>عرض تقديمي من PowerPoint</dc:title>
</cp:coreProperties>
</file>