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4.wmf" ContentType="image/x-wmf"/>
  <Override PartName="/ppt/media/type.wav" ContentType="audio/x-wav"/>
  <Override PartName="/ppt/media/drumroll.wav" ContentType="audio/x-wav"/>
  <Override PartName="/ppt/media/image3.wmf" ContentType="image/x-wmf"/>
  <Override PartName="/ppt/media/image2.wmf" ContentType="image/x-wmf"/>
  <Override PartName="/ppt/media/camera.wav" ContentType="audio/x-wav"/>
  <Override PartName="/ppt/media/projctor.wav" ContentType="audio/x-wav"/>
  <Override PartName="/ppt/media/driveby.wav" ContentType="audio/x-wav"/>
  <Override PartName="/ppt/media/cashreg.wav" ContentType="audio/x-wav"/>
  <Override PartName="/ppt/media/gunshot.wav" ContentType="audio/x-wav"/>
  <Override PartName="/ppt/media/image11.wmf" ContentType="image/x-wmf"/>
  <Override PartName="/ppt/media/chimes.wav" ContentType="audio/x-wav"/>
  <Override PartName="/ppt/media/image10.wmf" ContentType="image/x-wmf"/>
  <Override PartName="/ppt/media/image6.png" ContentType="image/png"/>
  <Override PartName="/ppt/media/explode.wav" ContentType="audio/x-wav"/>
  <Override PartName="/ppt/media/image9.wmf" ContentType="image/x-wmf"/>
  <Override PartName="/ppt/media/image7.wmf" ContentType="image/x-wmf"/>
  <Override PartName="/ppt/media/laser.wav" ContentType="audio/x-wav"/>
  <Override PartName="/ppt/media/image8.jpeg" ContentType="image/jpeg"/>
  <Override PartName="/ppt/media/whoosh.wav" ContentType="audio/x-wav"/>
  <Override PartName="/ppt/media/image5.wmf" ContentType="image/x-wmf"/>
  <Override PartName="/ppt/media/applause.wav" ContentType="audio/x-wav"/>
  <Override PartName="/ppt/media/glass.wav" ContentType="audio/x-wav"/>
  <Override PartName="/ppt/media/image1.png" ContentType="image/png"/>
  <Override PartName="/ppt/media/carbrake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4AF7-5730-40B6-84BF-CAA046E8E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8FCA-E7E0-4ED0-833C-9129C036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0C1F-F608-4801-8D6B-664E6B293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A68C-BC58-4CA7-B508-6ED12F9D5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878B-B5E5-40DE-93BD-3E26F7C8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661C-EFF9-4825-BA24-3B5077FD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A847-786D-4B67-84B7-67F896DE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8A3A-538E-4789-8605-04A07733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4388-D0E2-4C71-9DE5-C92B0EE7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E486-FA61-4853-B626-B27474B8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E31F-AFCC-4B33-9F8D-06785FCC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3BA9-96AA-4FCF-A2F6-28C6D41C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a420"/>
            </a:gs>
            <a:gs pos="100000">
              <a:srgbClr val="cc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6376-4AC0-4216-A49A-B25DAED7E963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audio" Target="../media/driveby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audio" Target="../media/carbrake.wav"/><Relationship Id="rId5" Type="http://schemas.openxmlformats.org/officeDocument/2006/relationships/audio" Target="../media/laser.wav"/><Relationship Id="rId6" Type="http://schemas.openxmlformats.org/officeDocument/2006/relationships/audio" Target="../media/carbrake.wav"/><Relationship Id="rId7" Type="http://schemas.openxmlformats.org/officeDocument/2006/relationships/audio" Target="../media/glass.wav"/><Relationship Id="rId8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chimes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rbrake.wav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explode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whoosh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1295280"/>
            <a:ext cx="86868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cc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اشارات وعلامات المرور</a:t>
            </a:r>
            <a:endParaRPr b="0" lang="en-US" sz="2400" spc="1" strike="noStrike">
              <a:ln w="19080">
                <a:solidFill>
                  <a:srgbClr val="cc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609840" y="5331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Times New Roman"/>
              </a:rPr>
              <a:t>اعبر الشارع بخطى سر يعه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828800" y="1828800"/>
            <a:ext cx="5486400" cy="457200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8153280" y="59436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4695" y="3794"/>
                </a:moveTo>
                <a:lnTo>
                  <a:pt x="18708" y="10800"/>
                </a:lnTo>
                <a:lnTo>
                  <a:pt x="46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0" y="59436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4695" y="10800"/>
                </a:moveTo>
                <a:lnTo>
                  <a:pt x="18708" y="3794"/>
                </a:lnTo>
                <a:lnTo>
                  <a:pt x="187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6600" spc="-1" strike="noStrike">
                <a:solidFill>
                  <a:srgbClr val="000000"/>
                </a:solidFill>
                <a:latin typeface="Times New Roman"/>
              </a:rPr>
              <a:t>زياد غير الحَذ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6002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قال فهيم: عندما كنت ذاهباً الى المدرسة, رأيت صديقي زياد, ينزل فجأة من الرصيف ويقطع الشارع ليذهب الى الدكان, ويشتري دفتراً, لم ينظر يساراً ويميناً وكانت سيارةُ اتيةً, فصدمته ونقل الى المستشف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57400" cy="3200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705720" y="0"/>
            <a:ext cx="24382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5000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00"/>
                </a:solidFill>
                <a:latin typeface="Times New Roman"/>
              </a:rPr>
              <a:t>اختار الجواب الصحي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صدمت السيارة زياد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أ) في المساء     ب) في الصباح         ج)عند الظه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904760" y="1676520"/>
            <a:ext cx="4724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5000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00"/>
                </a:solidFill>
                <a:latin typeface="Times New Roman"/>
              </a:rPr>
              <a:t>الى اللقا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733920" y="1828800"/>
            <a:ext cx="164628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50000">
              <a:srgbClr val="d1c39f"/>
            </a:gs>
            <a:gs pos="100000">
              <a:srgbClr val="ffefd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1143000"/>
            <a:ext cx="8381880" cy="192276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ar-SA" sz="6000" spc="-1" strike="noStrike">
                <a:solidFill>
                  <a:srgbClr val="ff3300"/>
                </a:solidFill>
                <a:latin typeface="Times New Roman"/>
              </a:rPr>
              <a:t>ا</a:t>
            </a:r>
            <a:r>
              <a:rPr b="1" lang="ar-SA" sz="6000" spc="-1" strike="noStrike">
                <a:solidFill>
                  <a:srgbClr val="ff6600"/>
                </a:solidFill>
                <a:latin typeface="Times New Roman"/>
              </a:rPr>
              <a:t>ل</a:t>
            </a:r>
            <a:r>
              <a:rPr b="1" lang="ar-SA" sz="6000" spc="-1" strike="noStrike">
                <a:solidFill>
                  <a:srgbClr val="33cc33"/>
                </a:solidFill>
                <a:latin typeface="Times New Roman"/>
              </a:rPr>
              <a:t>ت</a:t>
            </a:r>
            <a:r>
              <a:rPr b="1" lang="ar-SA" sz="6000" spc="-1" strike="noStrike">
                <a:solidFill>
                  <a:srgbClr val="cc0000"/>
                </a:solidFill>
                <a:latin typeface="Times New Roman"/>
              </a:rPr>
              <a:t>ع</a:t>
            </a:r>
            <a:r>
              <a:rPr b="1" lang="ar-SA" sz="6000" spc="-1" strike="noStrike">
                <a:solidFill>
                  <a:srgbClr val="ff6600"/>
                </a:solidFill>
                <a:latin typeface="Times New Roman"/>
              </a:rPr>
              <a:t>ر</a:t>
            </a:r>
            <a:r>
              <a:rPr b="1" lang="ar-SA" sz="6000" spc="-1" strike="noStrike">
                <a:solidFill>
                  <a:srgbClr val="33cc33"/>
                </a:solidFill>
                <a:latin typeface="Times New Roman"/>
              </a:rPr>
              <a:t>ف</a:t>
            </a:r>
            <a:r>
              <a:rPr b="1" lang="ar-SA" sz="6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cc0000"/>
                </a:solidFill>
                <a:latin typeface="Times New Roman"/>
              </a:rPr>
              <a:t>ع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ل</a:t>
            </a:r>
            <a:r>
              <a:rPr b="1" lang="ar-SA" sz="6000" spc="-1" strike="noStrike">
                <a:solidFill>
                  <a:srgbClr val="33cc33"/>
                </a:solidFill>
                <a:latin typeface="Times New Roman"/>
              </a:rPr>
              <a:t>ى</a:t>
            </a:r>
            <a:r>
              <a:rPr b="1" lang="ar-SA" sz="6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ا</a:t>
            </a:r>
            <a:r>
              <a:rPr b="1" lang="ar-SA" sz="6000" spc="-1" strike="noStrike">
                <a:solidFill>
                  <a:srgbClr val="000000"/>
                </a:solidFill>
                <a:latin typeface="Times New Roman"/>
              </a:rPr>
              <a:t>ش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ا</a:t>
            </a:r>
            <a:r>
              <a:rPr b="1" lang="ar-SA" sz="6000" spc="-1" strike="noStrike">
                <a:solidFill>
                  <a:srgbClr val="000000"/>
                </a:solidFill>
                <a:latin typeface="Times New Roman"/>
              </a:rPr>
              <a:t>ر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ا</a:t>
            </a:r>
            <a:r>
              <a:rPr b="1" lang="ar-SA" sz="60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SA" sz="6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cc0000"/>
                </a:solidFill>
                <a:latin typeface="Times New Roman"/>
              </a:rPr>
              <a:t>ا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ل</a:t>
            </a:r>
            <a:r>
              <a:rPr b="1" lang="ar-SA" sz="6000" spc="-1" strike="noStrike">
                <a:solidFill>
                  <a:srgbClr val="cc0000"/>
                </a:solidFill>
                <a:latin typeface="Times New Roman"/>
              </a:rPr>
              <a:t>م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ر</a:t>
            </a:r>
            <a:r>
              <a:rPr b="1" lang="ar-SA" sz="6000" spc="-1" strike="noStrike">
                <a:solidFill>
                  <a:srgbClr val="cc0000"/>
                </a:solidFill>
                <a:latin typeface="Times New Roman"/>
              </a:rPr>
              <a:t>و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8686800" cy="36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اشارات تحذير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مثلثة الشكل,بحيث يتجه راس المثلث الى اعلى . يظهر التحذير في جميع هذه الاشارات من خلال رسمة في داخل المثلث الاحمر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5000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00"/>
                </a:solidFill>
                <a:latin typeface="Times New Roman"/>
              </a:rPr>
              <a:t>اشارات توجي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66680" y="2362320"/>
            <a:ext cx="6477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تنقسم هذه الاشارات الى قسمين رئيسيين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أ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اشارات الحمراء والتي تعني ( لا تفعل ) ب) الاشارات الزرقاء والتي تعني ( افعل)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e3b7"/>
            </a:gs>
            <a:gs pos="50000">
              <a:srgbClr val="fbe4ae"/>
            </a:gs>
            <a:gs pos="100000">
              <a:srgbClr val="fae3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00"/>
                </a:solidFill>
                <a:latin typeface="Times New Roman"/>
              </a:rPr>
              <a:t>اشارات اعلاميه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لون هذه الاشارات ازرق , اخضر, ابيض او اصفر . مربعة الشكل والهدف منها ايصال معلومه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50000">
              <a:srgbClr val="ffffff"/>
            </a:gs>
            <a:gs pos="100000">
              <a:srgbClr val="e6e6e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r>
              <a:rPr b="1" lang="ar-SA" sz="9600" spc="-1" strike="noStrike">
                <a:solidFill>
                  <a:srgbClr val="000000"/>
                </a:solidFill>
                <a:latin typeface="Times New Roman"/>
              </a:rPr>
              <a:t>قوانين العبور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19008" y="10800"/>
                </a:lnTo>
                <a:lnTo>
                  <a:pt x="49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000000"/>
                </a:solidFill>
                <a:latin typeface="Times New Roman"/>
              </a:rPr>
              <a:t>قف قبل ان تعبر الشارع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2666880" cy="548640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8458200" y="6248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19158" y="10800"/>
                </a:lnTo>
                <a:lnTo>
                  <a:pt x="514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previousslide"/>
          </p:cNvPr>
          <p:cNvSpPr/>
          <p:nvPr/>
        </p:nvSpPr>
        <p:spPr>
          <a:xfrm flipV="1">
            <a:off x="0" y="62478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</a:rPr>
              <a:t>انظر الى جميع الجهات</a:t>
            </a: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8153280" cy="3886200"/>
          </a:xfrm>
          <a:prstGeom prst="rect">
            <a:avLst/>
          </a:prstGeom>
          <a:ln w="0">
            <a:noFill/>
          </a:ln>
        </p:spPr>
      </p:pic>
      <p:sp>
        <p:nvSpPr>
          <p:cNvPr id="57" name="">
            <a:hlinkClick r:id="" action="ppaction://hlinkshowjump?jump=nextslide"/>
          </p:cNvPr>
          <p:cNvSpPr/>
          <p:nvPr/>
        </p:nvSpPr>
        <p:spPr>
          <a:xfrm>
            <a:off x="8305920" y="60958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3794"/>
                </a:moveTo>
                <a:lnTo>
                  <a:pt x="18882" y="10800"/>
                </a:lnTo>
                <a:lnTo>
                  <a:pt x="48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" action="ppaction://hlinkshowjump?jump=previousslide"/>
          </p:cNvPr>
          <p:cNvSpPr/>
          <p:nvPr/>
        </p:nvSpPr>
        <p:spPr>
          <a:xfrm>
            <a:off x="0" y="60958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4" h="21600">
                <a:moveTo>
                  <a:pt x="5950" y="10800"/>
                </a:moveTo>
                <a:lnTo>
                  <a:pt x="19963" y="3794"/>
                </a:lnTo>
                <a:lnTo>
                  <a:pt x="1996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Times New Roman"/>
              </a:rPr>
              <a:t>انصت لاصوات حركة السير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333760" cy="4419720"/>
          </a:xfrm>
          <a:prstGeom prst="rect">
            <a:avLst/>
          </a:prstGeom>
          <a:ln w="0">
            <a:noFill/>
          </a:ln>
        </p:spPr>
      </p:pic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8305920" y="6172200"/>
            <a:ext cx="814320" cy="685800"/>
          </a:xfrm>
          <a:custGeom>
            <a:avLst/>
            <a:gdLst>
              <a:gd name="textAreaLeft" fmla="*/ 44280 w 814320"/>
              <a:gd name="textAreaRight" fmla="*/ 770040 w 814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5646" h="21600">
                <a:moveTo>
                  <a:pt x="0" y="0"/>
                </a:moveTo>
                <a:lnTo>
                  <a:pt x="25646" y="0"/>
                </a:lnTo>
                <a:lnTo>
                  <a:pt x="25646" y="21600"/>
                </a:lnTo>
                <a:lnTo>
                  <a:pt x="0" y="21600"/>
                </a:lnTo>
                <a:close/>
              </a:path>
              <a:path fill="lightenLess" w="25646" h="21600">
                <a:moveTo>
                  <a:pt x="0" y="0"/>
                </a:moveTo>
                <a:lnTo>
                  <a:pt x="25646" y="0"/>
                </a:lnTo>
                <a:lnTo>
                  <a:pt x="24246" y="1400"/>
                </a:lnTo>
                <a:lnTo>
                  <a:pt x="1400" y="1400"/>
                </a:lnTo>
                <a:close/>
              </a:path>
              <a:path fill="darken" w="25646" h="21600">
                <a:moveTo>
                  <a:pt x="25646" y="0"/>
                </a:moveTo>
                <a:lnTo>
                  <a:pt x="25646" y="21600"/>
                </a:lnTo>
                <a:lnTo>
                  <a:pt x="24246" y="20200"/>
                </a:lnTo>
                <a:lnTo>
                  <a:pt x="24246" y="1400"/>
                </a:lnTo>
                <a:close/>
              </a:path>
              <a:path fill="darkenLess" w="25646" h="21600">
                <a:moveTo>
                  <a:pt x="25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6" y="20200"/>
                </a:lnTo>
                <a:close/>
              </a:path>
              <a:path fill="lighten" w="25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6" h="21600">
                <a:moveTo>
                  <a:pt x="5816" y="3794"/>
                </a:moveTo>
                <a:lnTo>
                  <a:pt x="19829" y="10800"/>
                </a:lnTo>
                <a:lnTo>
                  <a:pt x="581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previousslide"/>
          </p:cNvPr>
          <p:cNvSpPr/>
          <p:nvPr/>
        </p:nvSpPr>
        <p:spPr>
          <a:xfrm>
            <a:off x="0" y="61722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10800"/>
                </a:moveTo>
                <a:lnTo>
                  <a:pt x="20203" y="3794"/>
                </a:lnTo>
                <a:lnTo>
                  <a:pt x="2020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اعبر الشارع بخط مستقيم وسريع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5867280" cy="4267080"/>
          </a:xfrm>
          <a:prstGeom prst="rect">
            <a:avLst/>
          </a:prstGeom>
          <a:ln w="0">
            <a:noFill/>
          </a:ln>
        </p:spPr>
      </p:pic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8305920" y="60958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3794"/>
                </a:moveTo>
                <a:lnTo>
                  <a:pt x="18882" y="10800"/>
                </a:lnTo>
                <a:lnTo>
                  <a:pt x="48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0" y="60958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i_e</cp:lastModifiedBy>
  <dcterms:modified xsi:type="dcterms:W3CDTF">2005-02-15T08:55:58Z</dcterms:modified>
  <cp:revision>3</cp:revision>
  <dc:subject/>
  <dc:title>عرض تقديمي من PowerPoint</dc:title>
</cp:coreProperties>
</file>