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Floyd%20Cramer%20-%20Annie's%20song.wav" ContentType="audio/x-wav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2463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858-C9D4-4DBD-A6CB-5157D274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261-1512-4037-A657-E599EB18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8FE-D104-42C2-A2A7-47D11AEA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AE1-AC41-4F45-AC6B-473D1A10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726-5766-4A6F-9E85-10404A52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6D0-4EA0-42C1-B9B7-47725BE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F9A-A0C7-40A6-AB03-BC234EDF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2EE-4E12-48A4-9D84-E2D7D34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66F-8D12-4FAD-97E2-D4878EF7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F11-7A41-4733-950D-359DC5A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70C-4B92-43B5-B484-3BF2F6D3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B64-02CA-4DFB-9383-ACA819B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374-C98D-42D0-8321-9E11AC57C7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loyd%20Cramer%20-%20Annie&apos;s%20son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5785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  <a:ea typeface="Times New Roman"/>
              </a:rPr>
              <a:t>Ik heb geleerd dat wat er ook gebeurt, of hoe slecht het er vandaag uitziet, het leven doorgaat, en het morgen beter zal zijn</a:t>
            </a: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04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33"/>
                </a:solidFill>
                <a:uFillTx/>
                <a:latin typeface="Lucida Calligraphy"/>
              </a:rPr>
              <a:t>Aan een buitengewoon perso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9000">
    <p:blinds dir="vert"/>
    <p:sndAc>
      <p:stSnd>
        <p:snd r:embed="rId2" name="Floyd%20Cramer%20-%20Annie's%20so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24280" y="76320"/>
            <a:ext cx="4114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Calligraphy"/>
                <a:ea typeface="Times New Roman"/>
              </a:rPr>
              <a:t>Ik heb geleerd dat mensen zullen vergeten wat je zei of deed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Calligraphy"/>
                <a:ea typeface="Times New Roman"/>
              </a:rPr>
              <a:t>Maar mensen vergeten nooit wat je hen liet voelen.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1000"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7925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Lucida Calligraphy"/>
                <a:ea typeface="Times New Roman"/>
              </a:rPr>
              <a:t>Stuur dit vandaag naar 5 buitengewone personen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Lucida Calligraphy"/>
                <a:ea typeface="Times New Roman"/>
              </a:rPr>
              <a:t>Als je het doet zal er iets goed gebeuren.....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Lucida Calligraphy"/>
                <a:ea typeface="Times New Roman"/>
              </a:rPr>
              <a:t>Je zult iemands zelfwaardering opkrikke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7000">
    <p:pull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4764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25146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Lucida Calligraphy"/>
                <a:ea typeface="Times New Roman"/>
              </a:rPr>
              <a:t>Ik heb geleerd dat je veel over een persoon kunt zeggen door de manier waarop hij/zij drie dingen behandelt: een regenachtige dag, verloren koffers, en kerstverlichting.</a:t>
            </a:r>
            <a:r>
              <a:rPr b="1" lang="en-US" sz="2400" spc="-1" strike="noStrike">
                <a:solidFill>
                  <a:srgbClr val="d60093"/>
                </a:solidFill>
                <a:latin typeface="Clarendon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8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3962520"/>
            <a:ext cx="2667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lligraphy"/>
                <a:ea typeface="Times New Roman"/>
              </a:rPr>
              <a:t>Ik heb geleerd dat je, hoe de relatie tussen je partner ook mag zijn, je haar/hem zult missen wanneer ze/hij uit je leven is.</a:t>
            </a:r>
            <a:r>
              <a:rPr b="1" lang="en-US" sz="2000" spc="-1" strike="noStrike">
                <a:solidFill>
                  <a:srgbClr val="3333ff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8000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5341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e818"/>
                </a:solidFill>
                <a:latin typeface="Lucida Calligraphy"/>
                <a:ea typeface="Times New Roman"/>
              </a:rPr>
              <a:t>Ik heb geleerd dat “leven om te werken” niet het hetzelfde is als “werken om te leven.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e818"/>
                </a:solidFill>
                <a:latin typeface="Lucida Calligraphy"/>
                <a:ea typeface="Times New Roman"/>
              </a:rPr>
              <a:t>Ik heb geleerd dat het leven je soms een tweede kans geef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3898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Lucida Calligraphy"/>
                <a:ea typeface="Times New Roman"/>
              </a:rPr>
              <a:t>Ik heb geleerd dat je niet met vanghandschoenen aan twee handen door het leven moet ga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Lucida Calligraphy"/>
                <a:ea typeface="Times New Roman"/>
              </a:rPr>
              <a:t>Je moet in staat zijn om iets terug te gooien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1000"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0492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Ik heb geleerd dat wanneer ik iets met een open hart besluit, ik meestal de juiste beslissing ne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5680" y="228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Times New Roman"/>
              </a:rPr>
              <a:t>Ik heb geleerd dat, ook al heb ik last van iets, ik hoef er geen te zij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8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9942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Calligraphy"/>
                <a:ea typeface="Times New Roman"/>
              </a:rPr>
              <a:t>Ik heb geleerd dat je elke dag naar iemand zou moeten uitreiken en hem/haar  aanrak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384480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Lucida Calligraphy"/>
                <a:ea typeface="Times New Roman"/>
              </a:rPr>
              <a:t>Mensen houden van een warme omhelzing of een vriendschappelijk tikje op de rug.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Lucida Calligraphy"/>
                <a:ea typeface="Times New Roman"/>
              </a:rPr>
              <a:t>Ik heb geleerd dat ik nog steeds veel te leren heb.</a:t>
            </a:r>
            <a:r>
              <a:rPr b="1" lang="en-US" sz="2200" spc="-1" strike="noStrike">
                <a:solidFill>
                  <a:srgbClr val="ff5050"/>
                </a:solidFill>
                <a:latin typeface="Lucida Calligraphy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nique</dc:creator>
  <dc:description/>
  <dc:language>en-US</dc:language>
  <cp:lastModifiedBy>Smets</cp:lastModifiedBy>
  <cp:lastPrinted>2001-06-15T14:00:15Z</cp:lastPrinted>
  <dcterms:modified xsi:type="dcterms:W3CDTF">2008-08-24T07:34:45Z</dcterms:modified>
  <cp:revision>22</cp:revision>
  <dc:subject/>
  <dc:title>Friends are like flowers </dc:title>
</cp:coreProperties>
</file>