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Shanti%20Mantra%20-%20Ravi%20Shankar.wav" ContentType="audio/x-wav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209-C01B-4CCD-9F27-CA6BFF43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AE1-D3ED-4B80-81EE-DA090F2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87E-F56C-4482-830F-D6FF40DF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305-8631-48D1-AAC2-DCDBDC1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8BE-2798-4E01-B0E4-A0B2A074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301-4D87-480A-8797-078426D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C08-ADCD-4855-B20F-ECA3328D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791-1D79-40BE-B385-DB8F2E50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FE0-6EC1-428B-BC48-057B3DE2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534-3AEC-4911-8753-BA068E9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49E-854D-4035-8FFF-42BD517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7F2-32B2-4753-8234-A628C5E9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EB4-135C-45C5-88F5-EC669FBCB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hanti%20Mantra%20-%20Ravi%20Shanka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558144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Goed K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Dit is een aardig artikel, maar kort.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Geniet ervan ! Dit is wat de Dalai Lama voor 2009 moet zegg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Shanti%20Mantra%20-%20Ravi%20Shank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pen je armen voor verandering, maar geef je waarden niet 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5480" y="3786120"/>
            <a:ext cx="8286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nthoud dat stilte soms het beste antwoord 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334944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Leef een goed, eerbaar lev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an, wanneer je ouder wordt, en terugdenkt, zul je in staat zijn om er een tweede keer van te geni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5480" y="500040"/>
            <a:ext cx="320652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Een liefdevolle atmosfeer in je huis  is het fundament voor je le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858920" y="260280"/>
            <a:ext cx="403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In meningsverschillen met degenen om wie je geeft, beperk je tot de huidige situatie. Breng niet het verleden ter spra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309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el je kennis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is een manier om onsterfelijkhei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te berei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71760" y="2133720"/>
            <a:ext cx="5486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Wees zuinig op de Aa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87280" y="5805360"/>
            <a:ext cx="57135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Ga eens per jaar naar een plek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aar je nog niet eerder bent gewe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618920" y="5444640"/>
            <a:ext cx="5832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Onthoud dat de beste relatie er één is, waarin uw liefde voor elkaar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uw behoefte aan elkaar overschrijd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Beoordeel je succes door wat j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moest opgeven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m het te krijg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859280" y="285840"/>
            <a:ext cx="3927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Houd er rekening mee dat grote liefde, en grote prestaties, grote risico’s implic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866920" y="285480"/>
            <a:ext cx="298476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Benader lief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en ko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met roekeloze ongedwongen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2000" y="6308640"/>
            <a:ext cx="295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BBF-BB2C-4206-BB44-92B2130EE556}" type="datetime2">
              <a:rPr b="0" lang="nl-NL" sz="1400" spc="-1" strike="noStrike">
                <a:solidFill>
                  <a:srgbClr val="808080"/>
                </a:solidFill>
                <a:latin typeface="Comic Sans MS"/>
              </a:rPr>
              <a:t>vrijdag 31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3840" y="214200"/>
            <a:ext cx="189216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Als je verlie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verlies niet de les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7160" y="4365360"/>
            <a:ext cx="5083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Volg de drie R’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Respect voor jezelf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Respect voor anderen, 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Responsibility voor al je da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00360" y="4221000"/>
            <a:ext cx="44938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nthoud dat niet krijgen wat je wilt soms een geweldige gelukstreffer 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8920" y="428400"/>
            <a:ext cx="370692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bf1de"/>
                </a:solidFill>
                <a:latin typeface="Comic Sans MS"/>
              </a:rPr>
              <a:t>Leer de regels, zo dat je weet, hoe ze behoorlijk te kunnen verbre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840" y="2500200"/>
            <a:ext cx="42865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Laat een klein geschil geen grote verstandverhouding verwon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427280" y="213840"/>
            <a:ext cx="439236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d0d0d"/>
                </a:solidFill>
                <a:latin typeface="Comic Sans MS"/>
              </a:rPr>
              <a:t>Wanneer je ontdekt dat je een fout hebt gemaakt,</a:t>
            </a:r>
            <a:br>
              <a:rPr sz="2400"/>
            </a:br>
            <a:r>
              <a:rPr b="0" lang="nl-NL" sz="2400" spc="-1" strike="noStrike">
                <a:solidFill>
                  <a:srgbClr val="0d0d0d"/>
                </a:solidFill>
                <a:latin typeface="Comic Sans MS"/>
              </a:rPr>
              <a:t>neem dan onmiddellijk stappen om het te herstel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2500200"/>
            <a:ext cx="3208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Breng dagelijks wat tijd alleen d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>muziek: Shanti Mantra - Ravi Shankar</dc:description>
  <dc:language>en-US</dc:language>
  <cp:lastModifiedBy>Smets</cp:lastModifiedBy>
  <dcterms:modified xsi:type="dcterms:W3CDTF">2009-01-13T19:55:06Z</dcterms:modified>
  <cp:revision>1</cp:revision>
  <dc:subject>PowerPoint-diapresentatie</dc:subject>
  <dc:title>Mantra</dc:title>
</cp:coreProperties>
</file>