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6A3-CB07-49B0-BDB5-D2DF60CB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0D3-D988-4C5E-BA99-10591867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3CD-9B5B-4989-8309-E021A356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FF8-A0B8-4594-AED2-F955A836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C0E-EFE1-45A8-80FE-E58820EA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4B4-4AF8-4D0B-9613-C7F63E00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3D8-65A3-4633-98DE-7C76A9B5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76B-745B-4131-8B4A-C34D84AA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484-724A-42BA-8966-F8F134C8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6FA-66F5-4742-AFAD-94CC08A4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2E4-2046-46F8-A8F2-B4CE5263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709-0B29-49AF-8D58-F8F9D798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49CA-2BDC-4472-80F6-D8CE2540CD7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7T06:22:21Z</dcterms:modified>
  <cp:revision>25</cp:revision>
  <dc:subject/>
  <dc:title>슬라이드 1</dc:title>
</cp:coreProperties>
</file>