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A3C0-C4F2-471F-A3A3-A9268CA1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39CF-D7C5-4F2C-968C-769F4FD5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9C4-598B-4821-B3FB-D80B26DB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1FC7-0A2A-42C8-844F-31E800B2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AD93-CEA8-4E52-9F62-57BB3CD8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B4D-9F2B-4850-8967-697C49E1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103-4C72-4ED4-A7CE-EA4D9D55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7B2-80AA-4B92-9E8C-FE78FB51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22DB-048A-4101-90A2-FACB9E1E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6D41-35DA-49B5-B960-6F92C230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46C2-CA4B-42B6-BF3C-3A1A10C7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1499-A0DA-4711-9727-1AF9E5D8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7152-B67B-42EB-9323-BB724CF7E68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27T06:22:21Z</dcterms:modified>
  <cp:revision>25</cp:revision>
  <dc:subject/>
  <dc:title>슬라이드 1</dc:title>
</cp:coreProperties>
</file>