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046-FC21-489C-84AE-6EBFCAF2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983-0554-4ED1-9A5C-387447DE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72B-F5AE-4F20-8D69-7EB60F10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310-46F0-4CC6-88AA-A481479F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8D0-03F2-4DD1-8B78-95680422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DD4-5D32-4FFD-B8E8-AF814C2B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B13-C12E-4298-888D-2B862904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61F-CB25-470F-8F70-95257783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300-0E5B-4BD8-8E19-45EAFA07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33B-A7B0-48F0-9952-2F44702B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E69-F028-4DEF-B9C5-C4D8E9F6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D4D-5B5B-46EC-A968-F8937D8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DBA2-2172-4FC6-9F42-6AD52EF28F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06T07:52:33Z</dcterms:modified>
  <cp:revision>24</cp:revision>
  <dc:subject/>
  <dc:title>슬라이드 1</dc:title>
</cp:coreProperties>
</file>