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2CD-763D-4ABC-A164-8891CE35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810-216C-411B-935A-BBCEB973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EAB-4357-49CB-B6CB-0C4682EA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592-94A0-4226-9F1E-09F68911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9A3-0924-428F-8C4F-A632BF7B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3595-5E58-4777-8D37-6FF235C3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5B3-C4DA-4735-924C-CAC37D0D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5C7-539F-4600-957E-802CC889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4F8-8D72-42B2-95B5-D052101C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8FD-3E3E-4D88-B37C-E905DB7A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EB0-1C81-4043-A521-2A67774E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7443-71C9-452A-9911-F8749D97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6F7E-394B-43B1-892B-12A917F706D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06T07:52:33Z</dcterms:modified>
  <cp:revision>24</cp:revision>
  <dc:subject/>
  <dc:title>슬라이드 1</dc:title>
</cp:coreProperties>
</file>