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8426-1AAE-495C-866C-994563F7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9332-CB8F-4B87-BEE3-839D2D44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A743-BAE9-45B1-95B1-F8D7DF4C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D2D-2F7F-43E0-B3ED-AEB628F6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D0B8-5F74-4269-93D7-BAAF9BE8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23E0-7BB0-4788-8F19-C11FBA4E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A255-D7D5-42B4-B3D0-82ADD914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6C36-FC4A-4E21-8FB3-E08820CF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8D73-A7A6-4E91-A306-E9230031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7380-533A-4D4C-B1DE-7188D6E8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7927-470D-4D38-8B63-73906D60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11ED-E63B-416F-AE6F-ADB8CF44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5FAE-D56F-469A-8D2C-66DB059B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4701-3CB2-47AB-A569-A0B05321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2D2A-DB1A-4A69-83F5-1E82133A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FCD1-F60E-4B98-B243-AA7521E0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56B8-D24B-4224-8442-00C1A78D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D15-846E-47B5-8AA0-029D42FD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CF9E-4721-4463-9E74-BA599A67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EAFF-51CC-4FA2-A7F5-733A5BAE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33F2-F42D-4F0A-A30B-D950F54A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F0A4-5EE1-49C9-BA41-42DC9552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1B76-27A4-45E7-978C-FB775392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593-D899-4EBE-9BF0-0BF15F53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5BA6-46F5-4C91-9769-46EEA45D276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2258-108A-4ECE-967F-39DF9440870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19051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Arial"/>
              </a:rPr>
              <a:t>An Introduction to NS-2</a:t>
            </a:r>
            <a:r>
              <a:rPr b="1" lang="en-US" sz="2800" spc="-1" strike="noStrike" baseline="62000">
                <a:solidFill>
                  <a:srgbClr val="006633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133360" y="41148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Gayatri Swamynath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CS 276 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3244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33"/>
                </a:solidFill>
                <a:latin typeface="Arial"/>
              </a:rPr>
              <a:t>*some slides are from a presentation by Haobo Yu &amp; Nader Salehi, USC/I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Hello World – Interactive mode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Courier New"/>
              </a:rPr>
              <a:t>bash-shell$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% set ns [new Simulator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_o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% $ns at 1 “puts \“Hello World!\”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% $ns at 1.5 “exi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% $ns r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Hello Worl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Courier New"/>
              </a:rPr>
              <a:t>bash-shell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Hello World – Batch mode 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imple.t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et ns [new Simulator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$ns at 1 “puts \“Hello World!\”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$ns at 1.5 “exi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$ns r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Courier New"/>
              </a:rPr>
              <a:t>bash-shell$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s simple.t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ello Worl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Courier New"/>
              </a:rPr>
              <a:t>bash-shell$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Basic Tcl: ex-tcl.tcl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Basic OTcl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676520"/>
            <a:ext cx="4191120" cy="4516200"/>
          </a:xfrm>
          <a:prstGeom prst="rect">
            <a:avLst/>
          </a:prstGeom>
          <a:noFill/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tpro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reet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l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tv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ge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“$age_ years old mom: How are you doing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id -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per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tpro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reet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l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tv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ge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“$age_ years old kid: What’s up, dude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1676520"/>
            <a:ext cx="3581280" cy="2590560"/>
          </a:xfrm>
          <a:prstGeom prst="rect">
            <a:avLst/>
          </a:prstGeom>
          <a:noFill/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om 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o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m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ge_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id 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i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k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ge_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mom g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kid g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52880" y="4419720"/>
            <a:ext cx="381024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NS-2 Generic Script Structure</a:t>
            </a:r>
            <a:endParaRPr b="1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Simulat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urn on tracing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Setup packet loss, link dynamic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rout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pplication and/or traffic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processing procedures (i.e. n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Step1: Create Simulator Object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event sched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set ns [new Simulato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Step2: Tracing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immediately after scheduler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packets on all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6633"/>
                </a:solidFill>
                <a:latin typeface="Courier New"/>
              </a:rPr>
              <a:t>set nf [open out.nam w]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6633"/>
                </a:solidFill>
                <a:latin typeface="Courier New"/>
              </a:rPr>
              <a:t>$ns trace-all $n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Courier New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6633"/>
                </a:solidFill>
                <a:latin typeface="Courier New"/>
              </a:rPr>
              <a:t>$ns namtrace-all $n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Step2: Tracing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68680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NS-2 Generic Script Structure</a:t>
            </a:r>
            <a:endParaRPr b="1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Simulat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urn on tracing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Setup packet loss, link dynamic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rout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pplication and/or traffic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processing procedures (i.e. n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Step 3: Create network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447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nodes, One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733920" y="2362320"/>
            <a:ext cx="685800" cy="2666880"/>
            <a:chOff x="3733920" y="2362320"/>
            <a:chExt cx="685800" cy="2666880"/>
          </a:xfrm>
        </p:grpSpPr>
        <p:sp>
          <p:nvSpPr>
            <p:cNvPr id="131" name=""/>
            <p:cNvSpPr/>
            <p:nvPr/>
          </p:nvSpPr>
          <p:spPr>
            <a:xfrm>
              <a:off x="3733920" y="4343400"/>
              <a:ext cx="685800" cy="685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33920" y="2362320"/>
              <a:ext cx="685800" cy="685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038480" y="304812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NS-2 Learning Resources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A web page for 276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http://www.cs.ucsb.edu/~gayatri/ta/cs276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809880" y="228600"/>
            <a:ext cx="609480" cy="579096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0840 h 5790960"/>
              <a:gd name="textAreaBottom" fmla="*/ 5640120 h 57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3505320"/>
            <a:ext cx="6324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related tools (nam, xgraph, 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-2 official website and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orials to get you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coding 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Step 3: Create Network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set n0 [$ns nod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set n1 [$ns nod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s and queu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duplex-link $n0 $n1 1Mb 10ms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ns duplex-link $n0 $n1 &lt;bandwidth&gt; &lt;delay&gt; &lt;queue_typ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queue_type&gt;: DropTail, RED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2514600"/>
            <a:ext cx="685800" cy="685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533520"/>
            <a:ext cx="685800" cy="685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305920" y="121932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Creating a larger topology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152280" y="1371600"/>
            <a:ext cx="9524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6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{set i 0} {$i &lt; 7} {incr i} {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n($i) [$ns node]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{set i 0} {$i &lt; 7} {incr i} {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ns duplex-link $n($i) $n([expr ($i+1)%7]) 1Mb 10ms 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4137120"/>
            <a:ext cx="281952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NS-2 Generic Script Structure</a:t>
            </a:r>
            <a:endParaRPr b="1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Simulat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urn on tracing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Setup packet loss, link dynamic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rout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pplication and/or traffic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processing procedures (i.e. n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Step 4: Network Dynamics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fail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s in routing module to reflect routing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rtmodel-at &lt;time&gt; up|down $n0 $n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rtmodel-at 1.0 down $n0 $n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rtmodel-at 2.0 up $n0 $n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Step 5: Creating UDP connection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60958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set udp [new Agent/UDP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set null [new Agent/Nul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attach-agent $n0 $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attach-agent $n1 $n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connect $udp $n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629400" y="1371600"/>
            <a:ext cx="1371600" cy="4114800"/>
            <a:chOff x="6629400" y="1371600"/>
            <a:chExt cx="1371600" cy="4114800"/>
          </a:xfrm>
        </p:grpSpPr>
        <p:sp>
          <p:nvSpPr>
            <p:cNvPr id="149" name=""/>
            <p:cNvSpPr/>
            <p:nvPr/>
          </p:nvSpPr>
          <p:spPr>
            <a:xfrm>
              <a:off x="6933960" y="3962160"/>
              <a:ext cx="685800" cy="685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3960" y="2361960"/>
              <a:ext cx="685800" cy="685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315200" y="304776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19760" y="2971800"/>
              <a:ext cx="0" cy="10666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29400" y="1371600"/>
              <a:ext cx="12189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38880" y="182880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29400" y="5029200"/>
              <a:ext cx="13716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15200" y="46479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ep 6: Creating Traffic 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(On Top of UDP)</a:t>
            </a:r>
            <a:endParaRPr b="1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76197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set cbr [new Application/Traffic/CBR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cbr set packetSize_ 5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cbr set interval_ 0.0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cbr attach-agent $ud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543800" y="1066680"/>
            <a:ext cx="1447560" cy="4953240"/>
            <a:chOff x="7543800" y="1066680"/>
            <a:chExt cx="1447560" cy="4953240"/>
          </a:xfrm>
        </p:grpSpPr>
        <p:sp>
          <p:nvSpPr>
            <p:cNvPr id="160" name=""/>
            <p:cNvSpPr/>
            <p:nvPr/>
          </p:nvSpPr>
          <p:spPr>
            <a:xfrm>
              <a:off x="7924680" y="4495680"/>
              <a:ext cx="685800" cy="685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2895480"/>
              <a:ext cx="685800" cy="685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8305560" y="3581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610480" y="3505320"/>
              <a:ext cx="0" cy="10666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19760" y="1905120"/>
              <a:ext cx="12193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43800" y="1066680"/>
              <a:ext cx="13716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14479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9600" y="23623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19760" y="5562720"/>
              <a:ext cx="13716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05560" y="5181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Creating TCP connection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75438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set tcp [new Agent/TCP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set tcpsink [new Agent/TCPSink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attach-agent $n0 $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attach-agent $n1 $tcps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connect $tcp $tcps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467480" y="1447920"/>
            <a:ext cx="1371600" cy="4114800"/>
            <a:chOff x="7467480" y="1447920"/>
            <a:chExt cx="1371600" cy="4114800"/>
          </a:xfrm>
        </p:grpSpPr>
        <p:sp>
          <p:nvSpPr>
            <p:cNvPr id="173" name=""/>
            <p:cNvSpPr/>
            <p:nvPr/>
          </p:nvSpPr>
          <p:spPr>
            <a:xfrm>
              <a:off x="7772040" y="4038480"/>
              <a:ext cx="685800" cy="685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72040" y="2438280"/>
              <a:ext cx="685800" cy="685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153280" y="31240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57840" y="3048120"/>
              <a:ext cx="0" cy="10666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67480" y="1447920"/>
              <a:ext cx="12189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076960" y="19051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67480" y="5105520"/>
              <a:ext cx="13716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53280" y="47242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ep 6: Creating Traffic 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(On Top of TCP)</a:t>
            </a:r>
            <a:endParaRPr b="1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set ftp [new Application/FTP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ftp attach-agent $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set telnet [new Application/Telnet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telnet attach-agent $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315200" y="1066680"/>
            <a:ext cx="1447560" cy="4953240"/>
            <a:chOff x="7315200" y="1066680"/>
            <a:chExt cx="1447560" cy="4953240"/>
          </a:xfrm>
        </p:grpSpPr>
        <p:sp>
          <p:nvSpPr>
            <p:cNvPr id="184" name=""/>
            <p:cNvSpPr/>
            <p:nvPr/>
          </p:nvSpPr>
          <p:spPr>
            <a:xfrm>
              <a:off x="7696080" y="4495680"/>
              <a:ext cx="685800" cy="685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96080" y="2895480"/>
              <a:ext cx="685800" cy="685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8076960" y="3581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81880" y="3505320"/>
              <a:ext cx="0" cy="10666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91160" y="1905120"/>
              <a:ext cx="12193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15200" y="1066680"/>
              <a:ext cx="13716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01000" y="14479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01000" y="23623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91160" y="5562720"/>
              <a:ext cx="13716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076960" y="5181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Recall: Generic Script Structure</a:t>
            </a:r>
            <a:endParaRPr b="1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ns [new Simulato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urn on tracing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Setup packet loss, link dynamic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pplication and/or traffic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processing procedures (i.e. n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05720" y="4952880"/>
            <a:ext cx="1996920" cy="978120"/>
            <a:chOff x="6705720" y="4952880"/>
            <a:chExt cx="1996920" cy="978120"/>
          </a:xfrm>
        </p:grpSpPr>
        <p:sp>
          <p:nvSpPr>
            <p:cNvPr id="197" name=""/>
            <p:cNvSpPr/>
            <p:nvPr/>
          </p:nvSpPr>
          <p:spPr>
            <a:xfrm>
              <a:off x="6705720" y="4952880"/>
              <a:ext cx="1996920" cy="978120"/>
            </a:xfrm>
            <a:prstGeom prst="cloudCallout">
              <a:avLst>
                <a:gd name="adj1" fmla="val -37837"/>
                <a:gd name="adj2" fmla="val 10681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09120" y="514332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x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Post-Processing Procedures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'finish' procedure that closes the trace file and starts n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proc finish {} {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global ns 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flush-tr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close $n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exec nam out.nam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exit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Roadmap For Today’s Lecture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 Pr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ng 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Run Simulation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6633"/>
                </a:solidFill>
                <a:latin typeface="Courier New"/>
              </a:rPr>
              <a:t>$ns at &lt;time&gt; &lt;event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event&gt;: any legitimate ns/tcl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33"/>
                </a:solidFill>
                <a:latin typeface="Courier New"/>
              </a:rPr>
              <a:t>$ns at 0.5 "$cbr start" </a:t>
            </a:r>
            <a:r>
              <a:rPr b="1" lang="en-US" sz="24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33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33"/>
                </a:solidFill>
                <a:latin typeface="Courier New"/>
              </a:rPr>
              <a:t>$ns at 4.5 "$cbr stop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‘finis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33"/>
                </a:solidFill>
                <a:latin typeface="Courier New"/>
              </a:rPr>
              <a:t>$ns at 5.0 "finish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the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33"/>
                </a:solidFill>
                <a:latin typeface="Courier New"/>
              </a:rPr>
              <a:t>$ns r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Recall: Generic Script Structure</a:t>
            </a:r>
            <a:endParaRPr b="1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ns [new Simulato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urn on tracing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Setup packet loss, link dynamic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rout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pplication and/or traffic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processing procedures (i.e. n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705720" y="4952880"/>
            <a:ext cx="1996920" cy="978120"/>
            <a:chOff x="6705720" y="4952880"/>
            <a:chExt cx="1996920" cy="978120"/>
          </a:xfrm>
        </p:grpSpPr>
        <p:sp>
          <p:nvSpPr>
            <p:cNvPr id="206" name=""/>
            <p:cNvSpPr/>
            <p:nvPr/>
          </p:nvSpPr>
          <p:spPr>
            <a:xfrm>
              <a:off x="6705720" y="4952880"/>
              <a:ext cx="1996920" cy="978120"/>
            </a:xfrm>
            <a:prstGeom prst="cloudCallout">
              <a:avLst>
                <a:gd name="adj1" fmla="val -37837"/>
                <a:gd name="adj2" fmla="val 10681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09120" y="514332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x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33"/>
                </a:solidFill>
                <a:latin typeface="Arial"/>
              </a:rPr>
              <a:t>Visualization Tools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m-1 (Network AniMator Version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acket-level ani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ell supported by 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33520" y="325440"/>
            <a:ext cx="8610480" cy="65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nam Interface: Nodes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9220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ode color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 (can’t be changed after sim star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ode shape box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  (circle, box, hexag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(single st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at 1.1 “$n0 label \”web cache 0\”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nam Interfaces: Links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duplex-link-op $n0 $n1 color "gree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duplex-link-op $n0 $n1 label “backbone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nam Interface: Topology Layout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” layout: specify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Courier New"/>
              </a:rPr>
              <a:t>$ns duplex-link-op $n(0) $n(1) orient r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Courier New"/>
              </a:rPr>
              <a:t>$ns duplex-link-op $n(1) $n(2) orient r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Courier New"/>
              </a:rPr>
              <a:t>$ns duplex-link-op $n(2) $n(3) orient r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Courier New"/>
              </a:rPr>
              <a:t>$ns duplex-link-op $n(3) $n(4) orient 60de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thing miss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tomatic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Simulation Example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Arial"/>
              </a:rPr>
              <a:t>Part II: Extending ns</a:t>
            </a:r>
            <a:endParaRPr b="1" lang="en-US" sz="44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Arial"/>
              </a:rPr>
              <a:t>Part I: ns Primer</a:t>
            </a:r>
            <a:endParaRPr b="1" lang="en-US" sz="44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OTcl and C++: The Duality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06640" y="1843200"/>
            <a:ext cx="3236760" cy="3962160"/>
          </a:xfrm>
          <a:prstGeom prst="rect">
            <a:avLst/>
          </a:prstGeom>
          <a:noFill/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88960" y="255744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17560" y="225252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22480" y="255744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717560" y="24051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22480" y="24051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81440" y="382896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52840" y="413388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62320" y="413388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67240" y="4438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57400" y="4438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804760" y="3981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86000" y="39816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185640" y="428616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67240" y="428616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1843200"/>
            <a:ext cx="3625920" cy="3962160"/>
          </a:xfrm>
          <a:prstGeom prst="rect">
            <a:avLst/>
          </a:prstGeom>
          <a:noFill/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89680" y="248904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18280" y="218448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23200" y="248904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7118280" y="23367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23200" y="23367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938840" y="3067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10240" y="337176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19720" y="337176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624640" y="367668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14800" y="367668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862160" y="321948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43400" y="321948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243040" y="35244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24640" y="35244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48840" y="528336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13400" y="528804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67240" y="3092400"/>
            <a:ext cx="167616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104" y="408"/>
                  <a:pt x="208" y="160"/>
                  <a:pt x="384" y="80"/>
                </a:cubicBezTo>
                <a:cubicBezTo>
                  <a:pt x="560" y="0"/>
                  <a:pt x="944" y="160"/>
                  <a:pt x="1056" y="17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62320" y="3905280"/>
            <a:ext cx="2158920" cy="1028520"/>
          </a:xfrm>
          <a:custGeom>
            <a:avLst/>
            <a:gdLst/>
            <a:ahLst/>
            <a:rect l="l" t="t" r="r" b="b"/>
            <a:pathLst>
              <a:path w="1360" h="648">
                <a:moveTo>
                  <a:pt x="0" y="432"/>
                </a:moveTo>
                <a:cubicBezTo>
                  <a:pt x="472" y="540"/>
                  <a:pt x="944" y="648"/>
                  <a:pt x="1152" y="576"/>
                </a:cubicBezTo>
                <a:cubicBezTo>
                  <a:pt x="1360" y="504"/>
                  <a:pt x="1232" y="96"/>
                  <a:pt x="124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71800" y="3905280"/>
            <a:ext cx="2082960" cy="1028520"/>
          </a:xfrm>
          <a:custGeom>
            <a:avLst/>
            <a:gdLst/>
            <a:ahLst/>
            <a:rect l="l" t="t" r="r" b="b"/>
            <a:pathLst>
              <a:path w="1312" h="648">
                <a:moveTo>
                  <a:pt x="0" y="432"/>
                </a:moveTo>
                <a:cubicBezTo>
                  <a:pt x="448" y="540"/>
                  <a:pt x="896" y="648"/>
                  <a:pt x="1104" y="576"/>
                </a:cubicBezTo>
                <a:cubicBezTo>
                  <a:pt x="1312" y="504"/>
                  <a:pt x="1280" y="252"/>
                  <a:pt x="124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28800" y="3016080"/>
            <a:ext cx="1905120" cy="1117800"/>
          </a:xfrm>
          <a:custGeom>
            <a:avLst/>
            <a:gdLst/>
            <a:ahLst/>
            <a:rect l="l" t="t" r="r" b="b"/>
            <a:pathLst>
              <a:path w="1200" h="704">
                <a:moveTo>
                  <a:pt x="0" y="704"/>
                </a:moveTo>
                <a:cubicBezTo>
                  <a:pt x="68" y="432"/>
                  <a:pt x="136" y="160"/>
                  <a:pt x="336" y="80"/>
                </a:cubicBezTo>
                <a:cubicBezTo>
                  <a:pt x="536" y="0"/>
                  <a:pt x="868" y="112"/>
                  <a:pt x="1200" y="22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86000" y="2787480"/>
            <a:ext cx="167652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80" y="408"/>
                  <a:pt x="160" y="160"/>
                  <a:pt x="336" y="80"/>
                </a:cubicBezTo>
                <a:cubicBezTo>
                  <a:pt x="512" y="0"/>
                  <a:pt x="784" y="88"/>
                  <a:pt x="1056" y="17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03640" y="2765520"/>
            <a:ext cx="1151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re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737040" y="2725560"/>
            <a:ext cx="12186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re O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68800" y="4998960"/>
            <a:ext cx="246852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++/OTcl split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654200"/>
            <a:ext cx="7504200" cy="4692600"/>
          </a:xfrm>
          <a:prstGeom prst="rect">
            <a:avLst/>
          </a:prstGeom>
          <a:noFill/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11640" y="590400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TclObject: Hierarchy and Shadowing</a:t>
            </a:r>
            <a:endParaRPr b="1" lang="en-US" sz="2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39960" y="1801800"/>
            <a:ext cx="1439640" cy="5526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39960" y="2998800"/>
            <a:ext cx="1439640" cy="5526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73000" y="4195800"/>
            <a:ext cx="1548000" cy="55224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ent/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98760" y="5326200"/>
            <a:ext cx="2125440" cy="74124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ent/TCP OTc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ahoma"/>
              </a:rPr>
              <a:t>shadow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"/>
          <p:cNvCxnSpPr>
            <a:stCxn id="266" idx="2"/>
            <a:endCxn id="267" idx="0"/>
          </p:cNvCxnSpPr>
          <p:nvPr/>
        </p:nvCxnSpPr>
        <p:spPr>
          <a:xfrm>
            <a:off x="1660320" y="2354400"/>
            <a:ext cx="1080" cy="64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67" idx="2"/>
            <a:endCxn id="268" idx="0"/>
          </p:cNvCxnSpPr>
          <p:nvPr/>
        </p:nvCxnSpPr>
        <p:spPr>
          <a:xfrm flipH="1">
            <a:off x="1647360" y="3551400"/>
            <a:ext cx="13680" cy="64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68" idx="2"/>
            <a:endCxn id="269" idx="0"/>
          </p:cNvCxnSpPr>
          <p:nvPr/>
        </p:nvCxnSpPr>
        <p:spPr>
          <a:xfrm>
            <a:off x="1647720" y="4748040"/>
            <a:ext cx="1015200" cy="5788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2864160" y="48816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o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8360" y="5326200"/>
            <a:ext cx="2125440" cy="74124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ent/TCP C+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60280" y="48704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69" idx="3"/>
            <a:endCxn id="274" idx="1"/>
          </p:cNvCxnSpPr>
          <p:nvPr/>
        </p:nvCxnSpPr>
        <p:spPr>
          <a:xfrm>
            <a:off x="3724200" y="5697000"/>
            <a:ext cx="1424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6954840" y="1779480"/>
            <a:ext cx="1440000" cy="5526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54840" y="2976480"/>
            <a:ext cx="1440000" cy="5526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00840" y="4173480"/>
            <a:ext cx="1548000" cy="5526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7" idx="2"/>
            <a:endCxn id="278" idx="0"/>
          </p:cNvCxnSpPr>
          <p:nvPr/>
        </p:nvCxnSpPr>
        <p:spPr>
          <a:xfrm>
            <a:off x="7675200" y="2332080"/>
            <a:ext cx="1080" cy="64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8" idx="2"/>
            <a:endCxn id="279" idx="0"/>
          </p:cNvCxnSpPr>
          <p:nvPr/>
        </p:nvCxnSpPr>
        <p:spPr>
          <a:xfrm>
            <a:off x="7675200" y="3529080"/>
            <a:ext cx="1080" cy="64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9" idx="2"/>
            <a:endCxn id="274" idx="0"/>
          </p:cNvCxnSpPr>
          <p:nvPr/>
        </p:nvCxnSpPr>
        <p:spPr>
          <a:xfrm flipH="1">
            <a:off x="6211440" y="4725720"/>
            <a:ext cx="1464480" cy="6008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83" name=""/>
          <p:cNvSpPr/>
          <p:nvPr/>
        </p:nvSpPr>
        <p:spPr>
          <a:xfrm>
            <a:off x="2461320" y="1724040"/>
            <a:ext cx="158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cl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68720" y="1709640"/>
            <a:ext cx="15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++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94200" y="1560600"/>
            <a:ext cx="3818160" cy="3360600"/>
          </a:xfrm>
          <a:prstGeom prst="rect">
            <a:avLst/>
          </a:prstGeom>
          <a:noFill/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44480" y="1560600"/>
            <a:ext cx="3818160" cy="3360600"/>
          </a:xfrm>
          <a:prstGeom prst="rect">
            <a:avLst/>
          </a:prstGeom>
          <a:noFill/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Extending ns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O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C+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838080" y="2133720"/>
            <a:ext cx="7688160" cy="4154400"/>
            <a:chOff x="838080" y="2133720"/>
            <a:chExt cx="7688160" cy="4154400"/>
          </a:xfrm>
        </p:grpSpPr>
        <p:sp>
          <p:nvSpPr>
            <p:cNvPr id="290" name=""/>
            <p:cNvSpPr/>
            <p:nvPr/>
          </p:nvSpPr>
          <p:spPr>
            <a:xfrm>
              <a:off x="2300040" y="3151440"/>
              <a:ext cx="981000" cy="4572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K8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95680" y="3151440"/>
              <a:ext cx="914400" cy="4572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T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14640" y="3151440"/>
              <a:ext cx="981000" cy="4572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l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87120" y="3151440"/>
              <a:ext cx="1008360" cy="4572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l8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33960" y="3151440"/>
              <a:ext cx="914400" cy="4572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s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3280" y="3151440"/>
              <a:ext cx="1035000" cy="4572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am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49640" y="4114800"/>
              <a:ext cx="914400" cy="4572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03160" y="4913640"/>
              <a:ext cx="914400" cy="4572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22480" y="4913640"/>
              <a:ext cx="914400" cy="4572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63720" y="4926240"/>
              <a:ext cx="914400" cy="4572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09960" y="40989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64240" y="49323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8080" y="5629320"/>
              <a:ext cx="1228680" cy="401760"/>
            </a:xfrm>
            <a:prstGeom prst="wedgeRoundRectCallout">
              <a:avLst>
                <a:gd name="adj1" fmla="val 40310"/>
                <a:gd name="adj2" fmla="val -124703"/>
                <a:gd name="adj3" fmla="val 16667"/>
              </a:avLst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xamp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325600" y="5631120"/>
              <a:ext cx="1639800" cy="403200"/>
            </a:xfrm>
            <a:prstGeom prst="wedgeRoundRectCallout">
              <a:avLst>
                <a:gd name="adj1" fmla="val 14861"/>
                <a:gd name="adj2" fmla="val -130708"/>
                <a:gd name="adj3" fmla="val 16667"/>
              </a:avLst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idation te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91240" y="4081680"/>
              <a:ext cx="1339560" cy="485640"/>
            </a:xfrm>
            <a:prstGeom prst="wedgeRoundRectCallout">
              <a:avLst>
                <a:gd name="adj1" fmla="val -31162"/>
                <a:gd name="adj2" fmla="val -149018"/>
                <a:gd name="adj3" fmla="val 16667"/>
              </a:avLst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++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5400000">
              <a:off x="6414120" y="3666600"/>
              <a:ext cx="270000" cy="3954240"/>
            </a:xfrm>
            <a:custGeom>
              <a:avLst/>
              <a:gdLst>
                <a:gd name="textAreaLeft" fmla="*/ 0 w 270000"/>
                <a:gd name="textAreaRight" fmla="*/ 97560 w 270000"/>
                <a:gd name="textAreaTop" fmla="*/ 102960 h 3954240"/>
                <a:gd name="textAreaBottom" fmla="*/ 3851280 h 395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99040" y="5845320"/>
              <a:ext cx="1197000" cy="442800"/>
            </a:xfrm>
            <a:prstGeom prst="roundRect">
              <a:avLst>
                <a:gd name="adj" fmla="val 16667"/>
              </a:avLst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Tcl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59040" y="2133720"/>
              <a:ext cx="1708200" cy="4842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s-allin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8" name=""/>
            <p:cNvCxnSpPr>
              <a:stCxn id="307" idx="2"/>
              <a:endCxn id="293" idx="0"/>
            </p:cNvCxnSpPr>
            <p:nvPr/>
          </p:nvCxnSpPr>
          <p:spPr>
            <a:xfrm flipH="1">
              <a:off x="1491480" y="2617920"/>
              <a:ext cx="30214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9" name=""/>
            <p:cNvCxnSpPr>
              <a:stCxn id="307" idx="2"/>
              <a:endCxn id="290" idx="0"/>
            </p:cNvCxnSpPr>
            <p:nvPr/>
          </p:nvCxnSpPr>
          <p:spPr>
            <a:xfrm flipH="1">
              <a:off x="2790360" y="2617920"/>
              <a:ext cx="172296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0" name=""/>
            <p:cNvCxnSpPr>
              <a:stCxn id="307" idx="2"/>
              <a:endCxn id="291" idx="0"/>
            </p:cNvCxnSpPr>
            <p:nvPr/>
          </p:nvCxnSpPr>
          <p:spPr>
            <a:xfrm flipH="1">
              <a:off x="4052520" y="2617920"/>
              <a:ext cx="46080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1" name=""/>
            <p:cNvCxnSpPr>
              <a:stCxn id="307" idx="2"/>
              <a:endCxn id="292" idx="0"/>
            </p:cNvCxnSpPr>
            <p:nvPr/>
          </p:nvCxnSpPr>
          <p:spPr>
            <a:xfrm>
              <a:off x="4512600" y="2617920"/>
              <a:ext cx="7930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2" name=""/>
            <p:cNvCxnSpPr>
              <a:stCxn id="307" idx="2"/>
              <a:endCxn id="294" idx="0"/>
            </p:cNvCxnSpPr>
            <p:nvPr/>
          </p:nvCxnSpPr>
          <p:spPr>
            <a:xfrm>
              <a:off x="4512600" y="2617920"/>
              <a:ext cx="197856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3" name=""/>
            <p:cNvCxnSpPr>
              <a:stCxn id="307" idx="2"/>
              <a:endCxn id="295" idx="0"/>
            </p:cNvCxnSpPr>
            <p:nvPr/>
          </p:nvCxnSpPr>
          <p:spPr>
            <a:xfrm>
              <a:off x="4512600" y="2617920"/>
              <a:ext cx="325836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4" name=""/>
            <p:cNvCxnSpPr>
              <a:stCxn id="294" idx="2"/>
              <a:endCxn id="296" idx="0"/>
            </p:cNvCxnSpPr>
            <p:nvPr/>
          </p:nvCxnSpPr>
          <p:spPr>
            <a:xfrm flipH="1">
              <a:off x="4506480" y="3608640"/>
              <a:ext cx="1985040" cy="50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5" name=""/>
            <p:cNvCxnSpPr>
              <a:stCxn id="296" idx="2"/>
              <a:endCxn id="297" idx="0"/>
            </p:cNvCxnSpPr>
            <p:nvPr/>
          </p:nvCxnSpPr>
          <p:spPr>
            <a:xfrm flipH="1">
              <a:off x="2160000" y="4571640"/>
              <a:ext cx="2347200" cy="34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6" name=""/>
            <p:cNvCxnSpPr>
              <a:stCxn id="296" idx="2"/>
              <a:endCxn id="298" idx="0"/>
            </p:cNvCxnSpPr>
            <p:nvPr/>
          </p:nvCxnSpPr>
          <p:spPr>
            <a:xfrm flipH="1">
              <a:off x="3378960" y="4571640"/>
              <a:ext cx="1127880" cy="34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7" name=""/>
            <p:cNvCxnSpPr>
              <a:stCxn id="296" idx="2"/>
              <a:endCxn id="299" idx="0"/>
            </p:cNvCxnSpPr>
            <p:nvPr/>
          </p:nvCxnSpPr>
          <p:spPr>
            <a:xfrm>
              <a:off x="4506840" y="4572000"/>
              <a:ext cx="5144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18" name=""/>
            <p:cNvSpPr/>
            <p:nvPr/>
          </p:nvSpPr>
          <p:spPr>
            <a:xfrm>
              <a:off x="5867280" y="4913640"/>
              <a:ext cx="914400" cy="4572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ca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9" name=""/>
            <p:cNvCxnSpPr>
              <a:stCxn id="296" idx="2"/>
              <a:endCxn id="318" idx="0"/>
            </p:cNvCxnSpPr>
            <p:nvPr/>
          </p:nvCxnSpPr>
          <p:spPr>
            <a:xfrm>
              <a:off x="4506480" y="4571640"/>
              <a:ext cx="1818360" cy="34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Extending ns in OTcl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don’t want to comp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rce your changes in your sim scrip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ing exisiting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p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new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 Makefile (NS_TCL_LIB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date tcl/lib/ns-lib.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p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Add Your Changes into ns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352600" y="2765520"/>
            <a:ext cx="9810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K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48240" y="2765520"/>
            <a:ext cx="9144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67200" y="2765520"/>
            <a:ext cx="9810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39680" y="2765520"/>
            <a:ext cx="100836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86520" y="2765520"/>
            <a:ext cx="9144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305840" y="2765520"/>
            <a:ext cx="10350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02200" y="3728880"/>
            <a:ext cx="9144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42920" y="4541760"/>
            <a:ext cx="9144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62240" y="4541760"/>
            <a:ext cx="9144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92840" y="4527720"/>
            <a:ext cx="9144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62520" y="37130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93000" y="45338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7840" y="5257800"/>
            <a:ext cx="1228680" cy="401760"/>
          </a:xfrm>
          <a:prstGeom prst="wedgeRoundRectCallout">
            <a:avLst>
              <a:gd name="adj1" fmla="val 37078"/>
              <a:gd name="adj2" fmla="val -127074"/>
              <a:gd name="adj3" fmla="val 16667"/>
            </a:avLst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665360" y="5259240"/>
            <a:ext cx="1639800" cy="403200"/>
          </a:xfrm>
          <a:prstGeom prst="wedgeRoundRectCallout">
            <a:avLst>
              <a:gd name="adj1" fmla="val 14861"/>
              <a:gd name="adj2" fmla="val -117717"/>
              <a:gd name="adj3" fmla="val 16667"/>
            </a:avLst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idation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643800" y="3695760"/>
            <a:ext cx="1339560" cy="485640"/>
          </a:xfrm>
          <a:prstGeom prst="wedgeRoundRectCallout">
            <a:avLst>
              <a:gd name="adj1" fmla="val -31162"/>
              <a:gd name="adj2" fmla="val -149018"/>
              <a:gd name="adj3" fmla="val 16667"/>
            </a:avLst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++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5400000">
            <a:off x="6842880" y="3268080"/>
            <a:ext cx="270000" cy="3954240"/>
          </a:xfrm>
          <a:custGeom>
            <a:avLst/>
            <a:gdLst>
              <a:gd name="textAreaLeft" fmla="*/ 0 w 270000"/>
              <a:gd name="textAreaRight" fmla="*/ 97560 w 270000"/>
              <a:gd name="textAreaTop" fmla="*/ 102960 h 3954240"/>
              <a:gd name="textAreaBottom" fmla="*/ 3851280 h 39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27800" y="5446800"/>
            <a:ext cx="1197000" cy="442800"/>
          </a:xfrm>
          <a:prstGeom prst="roundRect">
            <a:avLst>
              <a:gd name="adj" fmla="val 16667"/>
            </a:avLst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Tcl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11600" y="1747800"/>
            <a:ext cx="1708200" cy="484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-alli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40" idx="2"/>
            <a:endCxn id="326" idx="0"/>
          </p:cNvCxnSpPr>
          <p:nvPr/>
        </p:nvCxnSpPr>
        <p:spPr>
          <a:xfrm flipH="1">
            <a:off x="1544040" y="2232000"/>
            <a:ext cx="30214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" name=""/>
          <p:cNvCxnSpPr>
            <a:stCxn id="340" idx="2"/>
            <a:endCxn id="323" idx="0"/>
          </p:cNvCxnSpPr>
          <p:nvPr/>
        </p:nvCxnSpPr>
        <p:spPr>
          <a:xfrm flipH="1">
            <a:off x="2842920" y="2232000"/>
            <a:ext cx="1722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40" idx="2"/>
            <a:endCxn id="324" idx="0"/>
          </p:cNvCxnSpPr>
          <p:nvPr/>
        </p:nvCxnSpPr>
        <p:spPr>
          <a:xfrm flipH="1">
            <a:off x="4105080" y="2232000"/>
            <a:ext cx="460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40" idx="2"/>
            <a:endCxn id="325" idx="0"/>
          </p:cNvCxnSpPr>
          <p:nvPr/>
        </p:nvCxnSpPr>
        <p:spPr>
          <a:xfrm>
            <a:off x="4565160" y="2232000"/>
            <a:ext cx="793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340" idx="2"/>
            <a:endCxn id="327" idx="0"/>
          </p:cNvCxnSpPr>
          <p:nvPr/>
        </p:nvCxnSpPr>
        <p:spPr>
          <a:xfrm>
            <a:off x="4565160" y="2232000"/>
            <a:ext cx="19785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340" idx="2"/>
            <a:endCxn id="328" idx="0"/>
          </p:cNvCxnSpPr>
          <p:nvPr/>
        </p:nvCxnSpPr>
        <p:spPr>
          <a:xfrm>
            <a:off x="4565160" y="2232000"/>
            <a:ext cx="32583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27" idx="2"/>
            <a:endCxn id="329" idx="0"/>
          </p:cNvCxnSpPr>
          <p:nvPr/>
        </p:nvCxnSpPr>
        <p:spPr>
          <a:xfrm flipH="1">
            <a:off x="4559040" y="3222720"/>
            <a:ext cx="198504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29" idx="2"/>
            <a:endCxn id="330" idx="0"/>
          </p:cNvCxnSpPr>
          <p:nvPr/>
        </p:nvCxnSpPr>
        <p:spPr>
          <a:xfrm flipH="1">
            <a:off x="1499760" y="4186080"/>
            <a:ext cx="3060000" cy="35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9" name=""/>
          <p:cNvCxnSpPr>
            <a:stCxn id="329" idx="2"/>
            <a:endCxn id="331" idx="0"/>
          </p:cNvCxnSpPr>
          <p:nvPr/>
        </p:nvCxnSpPr>
        <p:spPr>
          <a:xfrm flipH="1">
            <a:off x="2718720" y="4186080"/>
            <a:ext cx="1840680" cy="35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0" name=""/>
          <p:cNvCxnSpPr>
            <a:stCxn id="329" idx="2"/>
            <a:endCxn id="332" idx="0"/>
          </p:cNvCxnSpPr>
          <p:nvPr/>
        </p:nvCxnSpPr>
        <p:spPr>
          <a:xfrm>
            <a:off x="4559400" y="4185720"/>
            <a:ext cx="891360" cy="34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1" name=""/>
          <p:cNvSpPr/>
          <p:nvPr/>
        </p:nvSpPr>
        <p:spPr>
          <a:xfrm>
            <a:off x="6296040" y="4514760"/>
            <a:ext cx="9144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"/>
          <p:cNvCxnSpPr>
            <a:stCxn id="329" idx="2"/>
            <a:endCxn id="351" idx="0"/>
          </p:cNvCxnSpPr>
          <p:nvPr/>
        </p:nvCxnSpPr>
        <p:spPr>
          <a:xfrm>
            <a:off x="4559400" y="4185720"/>
            <a:ext cx="219456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3684600" y="4545000"/>
            <a:ext cx="995400" cy="44280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ahoma"/>
              </a:rPr>
              <a:t>my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29" idx="2"/>
            <a:endCxn id="353" idx="0"/>
          </p:cNvCxnSpPr>
          <p:nvPr/>
        </p:nvCxnSpPr>
        <p:spPr>
          <a:xfrm flipH="1">
            <a:off x="4182480" y="4185720"/>
            <a:ext cx="37692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3603600" y="5257800"/>
            <a:ext cx="1157400" cy="45720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ahoma"/>
              </a:rPr>
              <a:t>msg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"/>
          <p:cNvCxnSpPr>
            <a:stCxn id="353" idx="2"/>
            <a:endCxn id="355" idx="0"/>
          </p:cNvCxnSpPr>
          <p:nvPr/>
        </p:nvCxnSpPr>
        <p:spPr>
          <a:xfrm>
            <a:off x="4182840" y="4987800"/>
            <a:ext cx="108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Extending ns in C++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ing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`make depend`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p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code in new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 Make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`make depend`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p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OTcl Linkage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create a new agent “MyAgent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mmy ag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rived from the “Agent” 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Step 1: Export C++ class to OTcl 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5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ep 2 : Export C++ class variables to OTcl </a:t>
            </a:r>
            <a:endParaRPr b="1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17524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80880" y="3733920"/>
            <a:ext cx="822960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default value for the variables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ns-2/tcl/lib/ns-lib.tcl"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ep 3: Export C++ Object Control Commands to OTcl </a:t>
            </a:r>
            <a:endParaRPr b="1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4582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What is ns?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oriented, discrete event-driven network simula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in C++ and OTc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VINT: Virtual InterNet Test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3915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ep 4: Execute an OTcl command from C++. </a:t>
            </a:r>
            <a:endParaRPr b="1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Step 5: Compile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above code as “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ex-linkage.c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"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Makef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, add "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ex-linkage.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 at the end of object file li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compile NS using the "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ma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 comm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Step 5: Run and Test “MyAgent”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906768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Step 5: Run and Test “MyAgent”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Roadmap For Today’s Lecture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 Pr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ng 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ns Architecture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ata path and control path implemen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What is ns?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oriented, discrete event-driven network simula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in C++ and OTc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VINT: Virtual InterNet Test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3915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ns Architecture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468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ata path and control path implemen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ns Architecture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8765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23:24:41Z</dcterms:created>
  <dc:creator>gayatri swamynathan</dc:creator>
  <dc:description/>
  <dc:language>en-US</dc:language>
  <cp:lastModifiedBy>Gayatri Swamynathan</cp:lastModifiedBy>
  <dcterms:modified xsi:type="dcterms:W3CDTF">2005-10-12T14:27:58Z</dcterms:modified>
  <cp:revision>180</cp:revision>
  <dc:subject/>
  <dc:title>Slide 1</dc:title>
</cp:coreProperties>
</file>