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2C9-585B-4D0A-80E9-01C934C2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6A1-CF27-4E67-95AE-6D935306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E69-672B-433F-8143-89BCFA8A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B2E-30BE-4B4C-9C40-6DA4D2E4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52E-1103-4B9C-869A-685BAD5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AF5-C302-4984-AB7F-FEA2D56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CB-72CC-409C-BEB8-12971583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FB2-9CCD-41D8-947C-8A26D35A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706-48B1-4DEB-95FE-72D1EFB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313-10F1-4DA1-B0E9-B86B984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41A-9C2B-46F7-9037-25FA229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4E4-6B98-4398-84BC-D79F612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2E9-E716-4FCE-8FC6-3486C539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3240" y="179280"/>
            <a:ext cx="56041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179280"/>
            <a:ext cx="6230880" cy="86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4640" y="179280"/>
            <a:ext cx="582156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" y="217440"/>
            <a:ext cx="5873760" cy="86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3360" y="395280"/>
            <a:ext cx="616752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395280"/>
            <a:ext cx="624996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9360" y="395280"/>
            <a:ext cx="567828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324000"/>
            <a:ext cx="5681520" cy="84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0640" y="250920"/>
            <a:ext cx="585144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1187280"/>
            <a:ext cx="623736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6280" y="395280"/>
            <a:ext cx="592308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9760" y="144360"/>
            <a:ext cx="572760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3360" y="2124000"/>
            <a:ext cx="6308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6480" y="108000"/>
            <a:ext cx="572148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280" y="755640"/>
            <a:ext cx="676944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0280" y="539640"/>
            <a:ext cx="622620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3840" y="395280"/>
            <a:ext cx="6130800" cy="86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9360" y="71280"/>
            <a:ext cx="574344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58579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6280" y="900000"/>
            <a:ext cx="581652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9360" y="611280"/>
            <a:ext cx="5643360" cy="76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0280" y="900000"/>
            <a:ext cx="61660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0640" y="287280"/>
            <a:ext cx="5542200" cy="85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9360" y="611280"/>
            <a:ext cx="57182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539640"/>
            <a:ext cx="641808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3360" y="468360"/>
            <a:ext cx="6172200" cy="81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45:41Z</dcterms:created>
  <dc:creator>md</dc:creator>
  <dc:description/>
  <dc:language>en-US</dc:language>
  <cp:lastModifiedBy>md</cp:lastModifiedBy>
  <dcterms:modified xsi:type="dcterms:W3CDTF">2007-10-28T17:56:49Z</dcterms:modified>
  <cp:revision>2</cp:revision>
  <dc:subject/>
  <dc:title>الشريحة 1</dc:title>
</cp:coreProperties>
</file>