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E41-2F8D-47E6-9961-52251C7C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E49-53C7-4C2E-83DD-67404EC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11E-7656-47CE-B6A5-053F0C76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540-445F-4D86-B5B1-7972E6A0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954-8EEE-4929-BDB6-A87B755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8F3-A58A-433F-8E94-4F8CCBA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585-2572-4F3B-997C-C98C6BA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310-D81A-42E0-916C-87B371F8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B79-6A43-4306-8409-2E49FA5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246-7990-416E-AE70-55045B7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836-33D1-472C-940A-67B136A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67D-5232-4DE7-A86E-FC59857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3A4B-8889-4857-8AC1-A28F470E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3240" y="179280"/>
            <a:ext cx="560412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0280" y="179280"/>
            <a:ext cx="6230880" cy="86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4640" y="179280"/>
            <a:ext cx="582156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3360" y="217440"/>
            <a:ext cx="5873760" cy="86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3360" y="395280"/>
            <a:ext cx="6167520" cy="74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0280" y="395280"/>
            <a:ext cx="624996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9360" y="395280"/>
            <a:ext cx="567828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360" y="324000"/>
            <a:ext cx="5681520" cy="84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0640" y="250920"/>
            <a:ext cx="585144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360" y="1187280"/>
            <a:ext cx="623736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6280" y="395280"/>
            <a:ext cx="5923080" cy="79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9760" y="144360"/>
            <a:ext cx="572760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3360" y="2124000"/>
            <a:ext cx="6308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6480" y="108000"/>
            <a:ext cx="572148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280" y="755640"/>
            <a:ext cx="676944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0280" y="539640"/>
            <a:ext cx="622620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3840" y="395280"/>
            <a:ext cx="6130800" cy="86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9360" y="71280"/>
            <a:ext cx="574344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0040" y="0"/>
            <a:ext cx="58579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6280" y="900000"/>
            <a:ext cx="581652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9360" y="611280"/>
            <a:ext cx="5643360" cy="76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0280" y="900000"/>
            <a:ext cx="61660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0640" y="287280"/>
            <a:ext cx="5542200" cy="85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9360" y="611280"/>
            <a:ext cx="57182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539640"/>
            <a:ext cx="641808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3360" y="468360"/>
            <a:ext cx="6172200" cy="81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45:41Z</dcterms:created>
  <dc:creator>md</dc:creator>
  <dc:description/>
  <dc:language>en-US</dc:language>
  <cp:lastModifiedBy>md</cp:lastModifiedBy>
  <dcterms:modified xsi:type="dcterms:W3CDTF">2007-10-28T17:56:49Z</dcterms:modified>
  <cp:revision>2</cp:revision>
  <dc:subject/>
  <dc:title>الشريحة 1</dc:title>
</cp:coreProperties>
</file>