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69E-AD04-40D5-A4D7-37FA33C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30E-8492-46F9-A21E-F1713B93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4A4-2615-4308-8614-3ADC415B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69B-7C4D-481D-89B5-381A7F46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EFC-35BA-40BA-AAEB-676A854A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B0D-51DE-4FC0-BFDA-4439DFDF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4D4-A6B5-4BEA-B048-9ABE9C8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0391-1646-44DF-8357-B2A22F3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625-DB10-4D6F-8346-52BACC25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C4CD-CFC7-4888-BE17-EBC7213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6814-D714-4510-B8D0-B0945BD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9BC-5DB1-404A-9F5D-271C622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CF4-B7B5-440F-A34D-4924E3E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B4F-28D2-49D8-B339-3452CAB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4E7A-00A4-496A-BFC0-149A430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5A0-628B-476C-BECC-08F0F50A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AB53-6F58-4F3D-B728-ABCF8609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D6B5F-F419-4A19-84C2-EBEAF870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B9A60-38EC-407E-BDB6-905D1A1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A38D9-A902-4F71-B04E-40F8976E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BEC75-BB19-4624-A1F8-CD46258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53375-E1E5-47CF-8F3A-CE187FDB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C51-9769-4C2B-8C21-265F7B49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50C06-F526-4DDD-9097-1423561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C050A-8304-4420-9BC6-13BB384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6931D-F289-4279-A16D-973EBB4B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F961B-E4DB-4AD1-9020-1E1D053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4F39A-6A11-4C9E-B434-CDA00F0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A4CFA-F4F7-489D-B98E-8AA6DFA0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0C699-23E6-4F04-9D79-CDDD78B7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1DE5-3923-4B9A-BFD0-FAE983F3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B8DB-CACE-4BE9-9503-140EE4D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1BE0-713E-4FF1-BC3F-CCE6F9C6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B5A-754C-4024-A3CB-9AE39D0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2B0A-CB99-4DA6-964E-5A73414A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5A82-2E91-4B2B-908E-A00C969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6920-91C2-4758-8D5B-DDD70317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A39C-398F-4813-AD9C-19348FFD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EAAA-1C17-4F66-B942-4B25DB7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616D-244C-4B5F-91A6-A1D2CE0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3BC4-4E34-4EDC-85D4-57C96DE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9942-DBED-43CA-B3E0-57B99056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A3AB-7B9E-4941-8150-F0A02CF5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9BCCB-B56C-4A87-9A79-3176E23D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526-25FF-4932-B2A3-F404854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FCFDC-B655-4ABC-AA59-0DF1DF79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6DCD0-7417-4E61-A578-24EF828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3C4B3-D7FE-420A-AF86-95CA0AF4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C6D2B-005D-41B0-82E6-ACB9873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55335-ACE2-4F37-92D1-3A0FA16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B08BF-9C40-454C-B227-E2959B6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DDC4F-74DD-4C47-AF95-3435C95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FEC62-40A1-4DE5-85BA-9C52C1F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E9017-68EE-49A3-84D6-8AA17CC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D70C5-EC60-4125-A209-3EE325E4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DF2-CDA0-40C8-8C66-E5D31BBF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353A2-4DD8-45B3-91DA-9DE5D0F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3844-319E-4407-B035-56E71447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2785-3D24-4FC6-A342-C3D76AC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EC08-15E8-4681-9FC0-210CD66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AA80-5F97-4974-841D-EAB236A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2E28-E790-4D77-AB81-DF4A1F9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ADAAA-B653-4EEE-B276-6D1764C1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CACF-5AB0-4C88-BC36-AC7EE61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C0DD-7BD0-47B6-8F72-2B13EBD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C7BC6-BF3C-426D-8CA5-7C231EF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49D-D6C3-4586-8C83-A98EB8F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0AE5-491F-4398-AA31-4FF818EB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ADF0-B48F-4AD0-8E7C-21C9E55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90560-5CFD-4218-BC06-89903F58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C17C7-CFE2-49DE-835E-8478593F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4C39-01FB-4D7E-882B-4E289B23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B238-2312-4B99-9EBC-43E6EAC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02EB-135C-4F5C-BF30-3C9F930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24AA-1441-4F2F-B369-EABA0FD3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75D6-B9D0-4FB9-9D44-5394EE00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E179-8B16-4CEA-A038-C6C6037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656-87D3-45C7-AD3B-D913682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5088-CAFF-44CA-BCE4-E46B4B1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5A81-563B-414A-A285-EDC1379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A2C8-0E0E-4A76-9733-725CE7C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F8AC-3ECE-4210-9D5D-0512A0C8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9ADBE-30F0-4E15-BA77-F8DD0BDA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AC5-B582-4A20-80F0-0CA622B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AFA-FD69-4F61-9D86-3973567B28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79D7-2B7B-4BB6-AEB5-C3EC3CAE7F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VNI-Time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702-71D3-4CD7-8D9F-47B43BC44FAA}" type="slidenum">
              <a:rPr b="0" lang="en-US" sz="10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VNI-Time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91C-8E5C-4077-9113-2E093111716F}" type="slidenum">
              <a:rPr b="0" lang="en-US" sz="10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93A-057B-4EAB-ADE9-5D0AB877D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NI-Time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NI-Times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DB2E-2321-4B84-A6AC-DD48810A1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NI-Times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NI-Times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B52-4E35-4B22-877A-DAC3211D8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où 4 caâu hoûi traéc nghieäm, moãi caâu coù 4 löïa choïn, trong ñoù coù 1 ñaùp aùn ñuù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Moãi caâu xuaát hieän trong thôøi gian töø 30 giaây ñeán 45 giaây ñeå HS vöøa ñoïc, vöøa suy nghó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Hoc sinh choïn ñaùp aùn ñuùng, ghi vaøo giaáy coù saün hoï teân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Ví duï caâu 1 choïn A thì ghi  1A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NI-Times"/>
              </a:rPr>
              <a:t>Kieåm tra baøi cuõ</a:t>
            </a:r>
            <a:endParaRPr b="1" lang="en-US" sz="6000" spc="-1" strike="noStrike">
              <a:solidFill>
                <a:srgbClr val="e5e5ff"/>
              </a:solidFill>
              <a:latin typeface="VNI-Times"/>
            </a:endParaRPr>
          </a:p>
        </p:txBody>
      </p:sp>
    </p:spTree>
  </p:cSld>
  <p:transition advTm="4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46" name=""/>
          <p:cNvSpPr/>
          <p:nvPr/>
        </p:nvSpPr>
        <p:spPr>
          <a:xfrm>
            <a:off x="2124000" y="1413000"/>
            <a:ext cx="5400720" cy="143964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60093"/>
                </a:solidFill>
                <a:latin typeface="VNI-Helve"/>
              </a:rPr>
              <a:t>x = x</a:t>
            </a:r>
            <a:r>
              <a:rPr b="0" lang="en-US" sz="4800" spc="-1" strike="noStrike" baseline="-25000">
                <a:solidFill>
                  <a:srgbClr val="d60093"/>
                </a:solidFill>
                <a:latin typeface="VNI-Helve"/>
              </a:rPr>
              <a:t>0</a:t>
            </a:r>
            <a:r>
              <a:rPr b="0" lang="en-US" sz="4800" spc="-1" strike="noStrike">
                <a:solidFill>
                  <a:srgbClr val="d60093"/>
                </a:solidFill>
                <a:latin typeface="VNI-Helve"/>
              </a:rPr>
              <a:t> + v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00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Trong ñoù vaän toác v coù ñaëc ñieåm gì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5373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Helve"/>
              </a:rPr>
              <a:t>V = haèng so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01080" y="2060640"/>
            <a:ext cx="503280" cy="863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863640"/>
              <a:gd name="textAreaBottom" fmla="*/ 831240 h 863640"/>
            </a:gdLst>
            <a:ahLst/>
            <a:rect l="textAreaLeft" t="textAreaTop" r="textAreaRight" b="textAreaBottom"/>
            <a:pathLst>
              <a:path w="21600" h="37055">
                <a:moveTo>
                  <a:pt x="0" y="0"/>
                </a:moveTo>
                <a:lnTo>
                  <a:pt x="21600" y="0"/>
                </a:lnTo>
                <a:lnTo>
                  <a:pt x="21600" y="37055"/>
                </a:lnTo>
                <a:lnTo>
                  <a:pt x="0" y="37055"/>
                </a:lnTo>
                <a:close/>
              </a:path>
              <a:path fill="lightenLess" w="21600" h="370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055">
                <a:moveTo>
                  <a:pt x="21600" y="0"/>
                </a:moveTo>
                <a:lnTo>
                  <a:pt x="21600" y="37055"/>
                </a:lnTo>
                <a:lnTo>
                  <a:pt x="20200" y="35655"/>
                </a:lnTo>
                <a:lnTo>
                  <a:pt x="20200" y="1400"/>
                </a:lnTo>
                <a:close/>
              </a:path>
              <a:path fill="darkenLess" w="21600" h="37055">
                <a:moveTo>
                  <a:pt x="21600" y="37055"/>
                </a:moveTo>
                <a:lnTo>
                  <a:pt x="0" y="37055"/>
                </a:lnTo>
                <a:lnTo>
                  <a:pt x="1400" y="35655"/>
                </a:lnTo>
                <a:lnTo>
                  <a:pt x="20200" y="35655"/>
                </a:lnTo>
                <a:close/>
              </a:path>
              <a:path fill="lighten" w="21600" h="37055">
                <a:moveTo>
                  <a:pt x="0" y="370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655"/>
                </a:lnTo>
                <a:close/>
              </a:path>
              <a:path fill="darken" w="21600" h="37055">
                <a:moveTo>
                  <a:pt x="10800" y="225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055">
                <a:moveTo>
                  <a:pt x="11905" y="22009"/>
                </a:moveTo>
                <a:lnTo>
                  <a:pt x="11905" y="20051"/>
                </a:lnTo>
                <a:cubicBezTo>
                  <a:pt x="11905" y="19224"/>
                  <a:pt x="12236" y="18528"/>
                  <a:pt x="12837" y="18528"/>
                </a:cubicBezTo>
                <a:cubicBezTo>
                  <a:pt x="13968" y="18528"/>
                  <a:pt x="14865" y="17161"/>
                  <a:pt x="14865" y="15577"/>
                </a:cubicBezTo>
                <a:cubicBezTo>
                  <a:pt x="14865" y="13262"/>
                  <a:pt x="13011" y="11521"/>
                  <a:pt x="10800" y="11521"/>
                </a:cubicBezTo>
                <a:cubicBezTo>
                  <a:pt x="8589" y="11521"/>
                  <a:pt x="6918" y="13262"/>
                  <a:pt x="6918" y="15577"/>
                </a:cubicBezTo>
                <a:lnTo>
                  <a:pt x="8772" y="15577"/>
                </a:lnTo>
                <a:cubicBezTo>
                  <a:pt x="8772" y="14437"/>
                  <a:pt x="9695" y="13549"/>
                  <a:pt x="10800" y="13549"/>
                </a:cubicBezTo>
                <a:cubicBezTo>
                  <a:pt x="11905" y="13549"/>
                  <a:pt x="12837" y="14437"/>
                  <a:pt x="12837" y="15577"/>
                </a:cubicBezTo>
                <a:cubicBezTo>
                  <a:pt x="12837" y="16317"/>
                  <a:pt x="12367" y="17048"/>
                  <a:pt x="11905" y="17048"/>
                </a:cubicBezTo>
                <a:cubicBezTo>
                  <a:pt x="10800" y="17048"/>
                  <a:pt x="9695" y="18528"/>
                  <a:pt x="9695" y="20051"/>
                </a:cubicBezTo>
                <a:lnTo>
                  <a:pt x="9695" y="2200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Times"/>
              </a:rPr>
              <a:t>Trong chuyeån ñoäng thaúng bieán ñoåi ñeàu thì vaän toác v coù ñaëc ñieåm gì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2492280"/>
            <a:ext cx="8351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Vaän toác v bieán ñoåi theo thôøi g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v =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+ 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8360" y="458136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Helve"/>
              </a:rPr>
              <a:t>Laøm theá naøo ñeå söû dung ñöôïc phöông trình cuûa chuyeån ñoäng thaúng ñeà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892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VNI-Helve"/>
              </a:rPr>
              <a:t>1) </a:t>
            </a: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882800"/>
            <a:ext cx="8351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Taïi thôøi ñieåm ban ñaàu 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= 0, chaát ñieåm coù vaän toác 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vaø toïa ñoä x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2909160"/>
            <a:ext cx="8496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Taïi thôøi ñieåm baát kyø t , chaát ñieåm coù vaän toác  v  vaø toïa ñoä  x</a:t>
            </a: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v  =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+  a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1920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144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8800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52360" y="4648320"/>
            <a:ext cx="8207280" cy="812520"/>
            <a:chOff x="252360" y="4648320"/>
            <a:chExt cx="8207280" cy="812520"/>
          </a:xfrm>
        </p:grpSpPr>
        <p:sp>
          <p:nvSpPr>
            <p:cNvPr id="461" name=""/>
            <p:cNvSpPr/>
            <p:nvPr/>
          </p:nvSpPr>
          <p:spPr>
            <a:xfrm>
              <a:off x="2523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344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71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100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2568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192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080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865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5964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840" y="4956120"/>
            <a:ext cx="425520" cy="425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00" y="5391000"/>
            <a:ext cx="9013680" cy="38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20" y="6234120"/>
            <a:ext cx="785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     A(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)                              B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4290840"/>
            <a:ext cx="57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VNI-Helv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88000" y="436248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47640" y="4290840"/>
            <a:ext cx="4969080" cy="1068840"/>
            <a:chOff x="1547640" y="4290840"/>
            <a:chExt cx="4969080" cy="1068840"/>
          </a:xfrm>
        </p:grpSpPr>
        <p:sp>
          <p:nvSpPr>
            <p:cNvPr id="476" name=""/>
            <p:cNvSpPr/>
            <p:nvPr/>
          </p:nvSpPr>
          <p:spPr>
            <a:xfrm flipV="1" rot="5400000">
              <a:off x="3816360" y="2599200"/>
              <a:ext cx="431640" cy="4969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129600 h 4969080"/>
                <a:gd name="textAreaBottom" fmla="*/ 4839480 h 496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76760" y="4290840"/>
              <a:ext cx="56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90520" y="5824080"/>
            <a:ext cx="1204920" cy="774720"/>
            <a:chOff x="290520" y="5824080"/>
            <a:chExt cx="1204920" cy="774720"/>
          </a:xfrm>
        </p:grpSpPr>
        <p:sp>
          <p:nvSpPr>
            <p:cNvPr id="479" name=""/>
            <p:cNvSpPr/>
            <p:nvPr/>
          </p:nvSpPr>
          <p:spPr>
            <a:xfrm rot="16200000">
              <a:off x="787320" y="5327280"/>
              <a:ext cx="211320" cy="120492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31320 h 1204920"/>
                <a:gd name="textAreaBottom" fmla="*/ 117360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6040" y="5950080"/>
              <a:ext cx="529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r>
                <a:rPr b="0" lang="en-US" sz="3200" spc="-1" strike="noStrike" baseline="-25000">
                  <a:solidFill>
                    <a:srgbClr val="66ff66"/>
                  </a:solidFill>
                  <a:latin typeface="VNI-Helve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90520" y="5949720"/>
            <a:ext cx="6297480" cy="762480"/>
            <a:chOff x="290520" y="5949720"/>
            <a:chExt cx="6297480" cy="762480"/>
          </a:xfrm>
        </p:grpSpPr>
        <p:sp>
          <p:nvSpPr>
            <p:cNvPr id="482" name=""/>
            <p:cNvSpPr/>
            <p:nvPr/>
          </p:nvSpPr>
          <p:spPr>
            <a:xfrm rot="16200000">
              <a:off x="3292560" y="2947680"/>
              <a:ext cx="293400" cy="6297480"/>
            </a:xfrm>
            <a:custGeom>
              <a:avLst/>
              <a:gdLst>
                <a:gd name="textAreaLeft" fmla="*/ 187560 w 293400"/>
                <a:gd name="textAreaRight" fmla="*/ 293760 w 293400"/>
                <a:gd name="textAreaTop" fmla="*/ 164160 h 6297480"/>
                <a:gd name="textAreaBottom" fmla="*/ 6133320 h 62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64480" y="613080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678 7.40741E-007 E">
                                      <p:cBhvr>
                                        <p:cTn id="207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2.22222E-006 L 0.01979 2.22222E-006 E">
                                      <p:cBhvr>
                                        <p:cTn id="210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7.40741E-007 L 0.03941 7.40741E-007 E">
                                      <p:cBhvr>
                                        <p:cTn id="213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7.40741E-007 L 0.06545 7.40741E-007 E">
                                      <p:cBhvr>
                                        <p:cTn id="216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3.7037E-006 L 0.09757 -3.7037E-006 E">
                                      <p:cBhvr>
                                        <p:cTn id="219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7.40741E-007 L 0.13767 7.40741E-007 E">
                                      <p:cBhvr>
                                        <p:cTn id="222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7.40741E-007 L 0.18125 7.40741E-007 E">
                                      <p:cBhvr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7.40741E-007 L 0.23629 7.40741E-007 E">
                                      <p:cBhvr>
                                        <p:cTn id="231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7.40741E-007 L 0.29549 7.40741E-007 E">
                                      <p:cBhvr>
                                        <p:cTn id="234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49 7.40741E-007 L 0.36233 7.40741E-007 E">
                                      <p:cBhvr>
                                        <p:cTn id="237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7.40741E-007 L 0.43316 7.40741E-007 E">
                                      <p:cBhvr>
                                        <p:cTn id="240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316 7.40741E-007 L 0.51615 7.40741E-007 E">
                                      <p:cBhvr>
                                        <p:cTn id="243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15 7.40741E-007 L 0.6007 7.40741E-007 E">
                                      <p:cBhvr>
                                        <p:cTn id="246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7 7.40741E-007 L 0.69254 7.40741E-007 E">
                                      <p:cBhvr>
                                        <p:cTn id="249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254 7.40741E-007 L 0.79392 7.40741E-007 E">
                                      <p:cBhvr>
                                        <p:cTn id="258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392 7.40741E-007 L 0.9033 7.40741E-007 E">
                                      <p:cBhvr>
                                        <p:cTn id="261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765000"/>
            <a:ext cx="6697440" cy="482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Laøm theá naøo ñeå vaän duïng ñöôïc phöông trình chuyeån ñoäng thaúng ñeà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24000" y="1714680"/>
            <a:ext cx="849600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ì vaän toác laø moät haøm baäc nhaát theo thôøi gian, khi chaát ñieåm thöïc hieän ñoä dôøi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trong khoaûng thôøi gian  t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=  t   ta coù theå coi chuyeån ñoäng cuûa chaát ñieåm laø thaúng ñeàu vôùi vaän toác baèng trung bình cuûa vaän toác ban ñaàu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vaø vaän toác cuoái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83520" y="2056680"/>
            <a:ext cx="36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Khi ñoù ta coù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32600" y="2848320"/>
            <a:ext cx="79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1" lang="en-US" sz="4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2720" y="4038840"/>
            <a:ext cx="251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  =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+  at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78320" y="3932640"/>
            <a:ext cx="79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4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49400" y="2959200"/>
                <a:ext cx="25146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0595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öø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va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, ta coù phöông trình chuyeån ñoäng thaúng bieán ñoåi ñeàu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260360" y="3179880"/>
            <a:ext cx="5112000" cy="1776960"/>
            <a:chOff x="1260360" y="3179880"/>
            <a:chExt cx="5112000" cy="1776960"/>
          </a:xfrm>
        </p:grpSpPr>
        <p:sp>
          <p:nvSpPr>
            <p:cNvPr id="499" name=""/>
            <p:cNvSpPr/>
            <p:nvPr/>
          </p:nvSpPr>
          <p:spPr>
            <a:xfrm>
              <a:off x="4356000" y="3179880"/>
              <a:ext cx="4539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4720" y="3827520"/>
              <a:ext cx="922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60360" y="3467160"/>
              <a:ext cx="51120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84720" y="3827520"/>
              <a:ext cx="698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5440" y="447732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Coâng thöù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goïi laø phöông trình chuyeån ñoäng thaúng bieán ñoåi ñeàu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69680" y="344736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260360" y="2133720"/>
            <a:ext cx="5112000" cy="1776960"/>
            <a:chOff x="1260360" y="2133720"/>
            <a:chExt cx="5112000" cy="1776960"/>
          </a:xfrm>
        </p:grpSpPr>
        <p:sp>
          <p:nvSpPr>
            <p:cNvPr id="508" name=""/>
            <p:cNvSpPr/>
            <p:nvPr/>
          </p:nvSpPr>
          <p:spPr>
            <a:xfrm>
              <a:off x="4356000" y="2133720"/>
              <a:ext cx="4539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84720" y="2781360"/>
              <a:ext cx="922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60360" y="2421000"/>
              <a:ext cx="51120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84720" y="2781360"/>
              <a:ext cx="698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69680" y="240120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1920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144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800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52360" y="3857760"/>
            <a:ext cx="8207280" cy="812520"/>
            <a:chOff x="252360" y="3857760"/>
            <a:chExt cx="8207280" cy="812520"/>
          </a:xfrm>
        </p:grpSpPr>
        <p:sp>
          <p:nvSpPr>
            <p:cNvPr id="517" name=""/>
            <p:cNvSpPr/>
            <p:nvPr/>
          </p:nvSpPr>
          <p:spPr>
            <a:xfrm>
              <a:off x="2523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344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71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2100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568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7192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6080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865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5964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8160" y="4165560"/>
            <a:ext cx="425520" cy="425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00" y="4600440"/>
            <a:ext cx="9013680" cy="38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0" y="5443560"/>
            <a:ext cx="785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     A(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)                              B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47640" y="3500280"/>
            <a:ext cx="57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VNI-Helve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88000" y="3571920"/>
            <a:ext cx="56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VNI-Helv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47640" y="3500280"/>
            <a:ext cx="4969080" cy="1068840"/>
            <a:chOff x="1547640" y="3500280"/>
            <a:chExt cx="4969080" cy="1068840"/>
          </a:xfrm>
        </p:grpSpPr>
        <p:sp>
          <p:nvSpPr>
            <p:cNvPr id="532" name=""/>
            <p:cNvSpPr/>
            <p:nvPr/>
          </p:nvSpPr>
          <p:spPr>
            <a:xfrm flipV="1" rot="5400000">
              <a:off x="3816360" y="1808640"/>
              <a:ext cx="431640" cy="4969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129600 h 4969080"/>
                <a:gd name="textAreaBottom" fmla="*/ 4839480 h 496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76760" y="3500280"/>
              <a:ext cx="56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90520" y="5033520"/>
            <a:ext cx="1204920" cy="774720"/>
            <a:chOff x="290520" y="5033520"/>
            <a:chExt cx="1204920" cy="774720"/>
          </a:xfrm>
        </p:grpSpPr>
        <p:sp>
          <p:nvSpPr>
            <p:cNvPr id="535" name=""/>
            <p:cNvSpPr/>
            <p:nvPr/>
          </p:nvSpPr>
          <p:spPr>
            <a:xfrm rot="16200000">
              <a:off x="787320" y="4536720"/>
              <a:ext cx="211320" cy="120492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31320 h 1204920"/>
                <a:gd name="textAreaBottom" fmla="*/ 117360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6040" y="5159520"/>
              <a:ext cx="529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r>
                <a:rPr b="0" lang="en-US" sz="3200" spc="-1" strike="noStrike" baseline="-25000">
                  <a:solidFill>
                    <a:srgbClr val="66ff66"/>
                  </a:solidFill>
                  <a:latin typeface="VNI-Helve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90520" y="5159160"/>
            <a:ext cx="6297480" cy="762480"/>
            <a:chOff x="290520" y="5159160"/>
            <a:chExt cx="6297480" cy="762480"/>
          </a:xfrm>
        </p:grpSpPr>
        <p:sp>
          <p:nvSpPr>
            <p:cNvPr id="538" name=""/>
            <p:cNvSpPr/>
            <p:nvPr/>
          </p:nvSpPr>
          <p:spPr>
            <a:xfrm rot="16200000">
              <a:off x="3292560" y="2157120"/>
              <a:ext cx="293400" cy="6297480"/>
            </a:xfrm>
            <a:custGeom>
              <a:avLst/>
              <a:gdLst>
                <a:gd name="textAreaLeft" fmla="*/ 187560 w 293400"/>
                <a:gd name="textAreaRight" fmla="*/ 293760 w 293400"/>
                <a:gd name="textAreaTop" fmla="*/ 164160 h 6297480"/>
                <a:gd name="textAreaBottom" fmla="*/ 6133320 h 62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4480" y="534024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678 7.40741E-007 E">
                                      <p:cBhvr>
                                        <p:cTn id="284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2.22222E-006 L 0.01979 2.22222E-006 E">
                                      <p:cBhvr>
                                        <p:cTn id="287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7.40741E-007 L 0.03941 7.40741E-007 E">
                                      <p:cBhvr>
                                        <p:cTn id="29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7.40741E-007 L 0.06545 7.40741E-007 E">
                                      <p:cBhvr>
                                        <p:cTn id="293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3.7037E-006 L 0.09757 -3.7037E-006 E">
                                      <p:cBhvr>
                                        <p:cTn id="296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7.40741E-007 L 0.13767 7.40741E-007 E">
                                      <p:cBhvr>
                                        <p:cTn id="299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7.40741E-007 L 0.18125 7.40741E-007 E">
                                      <p:cBhvr>
                                        <p:cTn id="30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7.40741E-007 L 0.23629 7.40741E-007 E">
                                      <p:cBhvr>
                                        <p:cTn id="308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7.40741E-007 L 0.29549 7.40741E-007 E">
                                      <p:cBhvr>
                                        <p:cTn id="311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49 7.40741E-007 L 0.36233 7.40741E-007 E">
                                      <p:cBhvr>
                                        <p:cTn id="314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7.40741E-007 L 0.43316 7.40741E-007 E">
                                      <p:cBhvr>
                                        <p:cTn id="317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316 7.40741E-007 L 0.51615 7.40741E-007 E">
                                      <p:cBhvr>
                                        <p:cTn id="32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15 7.40741E-007 L 0.6007 7.40741E-007 E">
                                      <p:cBhvr>
                                        <p:cTn id="323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7 7.40741E-007 L 0.69254 7.40741E-007 E">
                                      <p:cBhvr>
                                        <p:cTn id="326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254 7.40741E-007 L 0.79392 7.40741E-007 E">
                                      <p:cBhvr>
                                        <p:cTn id="33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392 7.40741E-007 L 0.9033 7.40741E-007 E">
                                      <p:cBhvr>
                                        <p:cTn id="338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34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Ñöôøng bieåu dieãn söï phuï thuoäc cuûa toïa ñoä theo thôøi gian laø moät ñöôøng parabol.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3080" y="3321720"/>
            <a:ext cx="37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öø phöông trình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24360" y="3035160"/>
            <a:ext cx="5111640" cy="1776960"/>
            <a:chOff x="3924360" y="3035160"/>
            <a:chExt cx="5111640" cy="1776960"/>
          </a:xfrm>
        </p:grpSpPr>
        <p:sp>
          <p:nvSpPr>
            <p:cNvPr id="545" name=""/>
            <p:cNvSpPr/>
            <p:nvPr/>
          </p:nvSpPr>
          <p:spPr>
            <a:xfrm>
              <a:off x="7019640" y="3035160"/>
              <a:ext cx="4536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48360" y="3682800"/>
              <a:ext cx="9219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24360" y="3322440"/>
              <a:ext cx="51116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48360" y="3682800"/>
              <a:ext cx="69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3800" y="4189680"/>
            <a:ext cx="2428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Neáu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768760" y="3933720"/>
            <a:ext cx="4395600" cy="1776960"/>
            <a:chOff x="2768760" y="3933720"/>
            <a:chExt cx="4395600" cy="1776960"/>
          </a:xfrm>
        </p:grpSpPr>
        <p:sp>
          <p:nvSpPr>
            <p:cNvPr id="551" name=""/>
            <p:cNvSpPr/>
            <p:nvPr/>
          </p:nvSpPr>
          <p:spPr>
            <a:xfrm>
              <a:off x="2768760" y="4221000"/>
              <a:ext cx="43956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162400" y="3933720"/>
              <a:ext cx="922320" cy="1776960"/>
              <a:chOff x="5162400" y="3933720"/>
              <a:chExt cx="922320" cy="1776960"/>
            </a:xfrm>
          </p:grpSpPr>
          <p:sp>
            <p:nvSpPr>
              <p:cNvPr id="553" name=""/>
              <p:cNvSpPr/>
              <p:nvPr/>
            </p:nvSpPr>
            <p:spPr>
              <a:xfrm>
                <a:off x="5234040" y="3933720"/>
                <a:ext cx="45396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62400" y="458136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162400" y="458136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90760" y="3573360"/>
            <a:ext cx="1425600" cy="2019240"/>
          </a:xfrm>
          <a:custGeom>
            <a:avLst/>
            <a:gdLst/>
            <a:ahLst/>
            <a:rect l="l" t="t" r="r" b="b"/>
            <a:pathLst>
              <a:path w="998" h="1315">
                <a:moveTo>
                  <a:pt x="0" y="1315"/>
                </a:moveTo>
                <a:cubicBezTo>
                  <a:pt x="166" y="1288"/>
                  <a:pt x="333" y="1262"/>
                  <a:pt x="499" y="1043"/>
                </a:cubicBezTo>
                <a:cubicBezTo>
                  <a:pt x="665" y="824"/>
                  <a:pt x="831" y="412"/>
                  <a:pt x="99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4960" y="241992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Ñoà thò bieåu dieãn x theo t coù daïng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3500280"/>
            <a:ext cx="4248000" cy="2737080"/>
          </a:xfrm>
          <a:custGeom>
            <a:avLst/>
            <a:gdLst/>
            <a:ahLst/>
            <a:rect l="l" t="t" r="r" b="b"/>
            <a:pathLst>
              <a:path w="2676" h="1724">
                <a:moveTo>
                  <a:pt x="0" y="0"/>
                </a:moveTo>
                <a:lnTo>
                  <a:pt x="0" y="1724"/>
                </a:lnTo>
                <a:lnTo>
                  <a:pt x="2676" y="1724"/>
                </a:lnTo>
              </a:path>
            </a:pathLst>
          </a:custGeom>
          <a:noFill/>
          <a:ln w="3816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40680" y="299736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 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74920" y="58770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t (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90640" y="5164200"/>
            <a:ext cx="66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</a:t>
            </a:r>
            <a:r>
              <a:rPr b="0" lang="en-US" sz="3600" spc="-1" strike="noStrike" baseline="-25000">
                <a:solidFill>
                  <a:srgbClr val="ffff66"/>
                </a:solidFill>
                <a:latin typeface="VNI-Helve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5800" y="602784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NI-Helv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15520" y="385992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Helve"/>
              </a:rPr>
              <a:t>Tröôøng hôïp  a &gt;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4000" y="1628280"/>
            <a:ext cx="7993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aâu 1: Choïn caâu ñuù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rong chuyeån ñoäng thaúng ñeàu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A. vaän toác laø haøm baäc nhaát cuûa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B. vaän toâùc trung bình tyû leä vôùi thôøi gian chuyeån ñoä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. toïa ñoä laø haøm baäc nhaát cuûa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D. toïa ñoä tyû leä thuaän vôùi thôøi gian chuyeån ñoäng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V="1">
            <a:off x="1490760" y="4075920"/>
            <a:ext cx="1425600" cy="2019240"/>
          </a:xfrm>
          <a:custGeom>
            <a:avLst/>
            <a:gdLst/>
            <a:ahLst/>
            <a:rect l="l" t="t" r="r" b="b"/>
            <a:pathLst>
              <a:path w="998" h="1315">
                <a:moveTo>
                  <a:pt x="0" y="1315"/>
                </a:moveTo>
                <a:cubicBezTo>
                  <a:pt x="166" y="1288"/>
                  <a:pt x="333" y="1262"/>
                  <a:pt x="499" y="1043"/>
                </a:cubicBezTo>
                <a:cubicBezTo>
                  <a:pt x="665" y="824"/>
                  <a:pt x="831" y="412"/>
                  <a:pt x="99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</a:t>
            </a:r>
            <a:r>
              <a:rPr b="1" lang="en-US" sz="3200" spc="-1" strike="noStrike">
                <a:solidFill>
                  <a:srgbClr val="00ffcc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4960" y="241992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Ñoà thò bieåu dieãn x theo t coù daïng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3500280"/>
            <a:ext cx="4248000" cy="2737080"/>
          </a:xfrm>
          <a:custGeom>
            <a:avLst/>
            <a:gdLst/>
            <a:ahLst/>
            <a:rect l="l" t="t" r="r" b="b"/>
            <a:pathLst>
              <a:path w="2676" h="1724">
                <a:moveTo>
                  <a:pt x="0" y="0"/>
                </a:moveTo>
                <a:lnTo>
                  <a:pt x="0" y="1724"/>
                </a:lnTo>
                <a:lnTo>
                  <a:pt x="2676" y="1724"/>
                </a:lnTo>
              </a:path>
            </a:pathLst>
          </a:custGeom>
          <a:noFill/>
          <a:ln w="3816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40680" y="299736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 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74920" y="58770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t (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90640" y="3716280"/>
            <a:ext cx="66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</a:t>
            </a:r>
            <a:r>
              <a:rPr b="0" lang="en-US" sz="3600" spc="-1" strike="noStrike" baseline="-25000">
                <a:solidFill>
                  <a:srgbClr val="ffff66"/>
                </a:solidFill>
                <a:latin typeface="VNI-Helve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65800" y="602784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NI-Helv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215520" y="385992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Helve"/>
              </a:rPr>
              <a:t>Tröôøng hôïp  a &lt;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116820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Xeùt chaát ñieåm chuyeån ñoäng thaúng bieán ñoåi ñeàu, khi ñoù ta coù phöông trình chuyeån ñoäng thaúng beán ñoåi ñeàu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116000" y="2997360"/>
            <a:ext cx="5111640" cy="1776960"/>
            <a:chOff x="1116000" y="2997360"/>
            <a:chExt cx="5111640" cy="1776960"/>
          </a:xfrm>
        </p:grpSpPr>
        <p:sp>
          <p:nvSpPr>
            <p:cNvPr id="579" name=""/>
            <p:cNvSpPr/>
            <p:nvPr/>
          </p:nvSpPr>
          <p:spPr>
            <a:xfrm>
              <a:off x="4211280" y="2997360"/>
              <a:ext cx="4536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3645000"/>
              <a:ext cx="9219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16000" y="3284640"/>
              <a:ext cx="51116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40000" y="3645000"/>
              <a:ext cx="69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59360" y="4373640"/>
            <a:ext cx="5768280" cy="1776960"/>
            <a:chOff x="459360" y="4373640"/>
            <a:chExt cx="5768280" cy="1776960"/>
          </a:xfrm>
        </p:grpSpPr>
        <p:grpSp>
          <p:nvGrpSpPr>
            <p:cNvPr id="584" name=""/>
            <p:cNvGrpSpPr/>
            <p:nvPr/>
          </p:nvGrpSpPr>
          <p:grpSpPr>
            <a:xfrm>
              <a:off x="1116000" y="4373640"/>
              <a:ext cx="5111640" cy="1776960"/>
              <a:chOff x="1116000" y="4373640"/>
              <a:chExt cx="5111640" cy="1776960"/>
            </a:xfrm>
          </p:grpSpPr>
          <p:sp>
            <p:nvSpPr>
              <p:cNvPr id="585" name=""/>
              <p:cNvSpPr/>
              <p:nvPr/>
            </p:nvSpPr>
            <p:spPr>
              <a:xfrm>
                <a:off x="4211280" y="4373640"/>
                <a:ext cx="45360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40000" y="5021280"/>
                <a:ext cx="92196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6000" y="4660920"/>
                <a:ext cx="511164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x - x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= v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t  +        at</a:t>
                </a:r>
                <a:r>
                  <a:rPr b="0" lang="en-US" sz="3400" spc="-1" strike="noStrike" baseline="30000">
                    <a:solidFill>
                      <a:srgbClr val="ffffff"/>
                    </a:solidFill>
                    <a:latin typeface="VNI-Helve"/>
                  </a:rPr>
                  <a:t>2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             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40000" y="5021280"/>
                <a:ext cx="698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59360" y="472140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11095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Khi chaát ñieåm chæ chuyeån ñoäng theo chieàu döông thì quaõng ñöôøng “truøng” vôùi ñoä dôøi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971640" y="2421000"/>
            <a:ext cx="6769080" cy="1776960"/>
            <a:chOff x="971640" y="2421000"/>
            <a:chExt cx="6769080" cy="1776960"/>
          </a:xfrm>
        </p:grpSpPr>
        <p:grpSp>
          <p:nvGrpSpPr>
            <p:cNvPr id="593" name=""/>
            <p:cNvGrpSpPr/>
            <p:nvPr/>
          </p:nvGrpSpPr>
          <p:grpSpPr>
            <a:xfrm>
              <a:off x="2628720" y="2421000"/>
              <a:ext cx="5112000" cy="1776960"/>
              <a:chOff x="2628720" y="2421000"/>
              <a:chExt cx="5112000" cy="1776960"/>
            </a:xfrm>
          </p:grpSpPr>
          <p:sp>
            <p:nvSpPr>
              <p:cNvPr id="594" name=""/>
              <p:cNvSpPr/>
              <p:nvPr/>
            </p:nvSpPr>
            <p:spPr>
              <a:xfrm>
                <a:off x="5724360" y="2421000"/>
                <a:ext cx="45396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53080" y="306864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28720" y="2708280"/>
                <a:ext cx="5112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x - x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= v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t  +        at</a:t>
                </a:r>
                <a:r>
                  <a:rPr b="0" lang="en-US" sz="3400" spc="-1" strike="noStrike" baseline="30000">
                    <a:solidFill>
                      <a:srgbClr val="ffffff"/>
                    </a:solidFill>
                    <a:latin typeface="VNI-Helve"/>
                  </a:rPr>
                  <a:t>2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             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53080" y="306864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971640" y="2741400"/>
              <a:ext cx="17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NI-Helve"/>
                </a:rPr>
                <a:t>s = 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VNI-Helve"/>
                </a:rPr>
                <a:t>x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7402680" y="263700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322884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Maët khaùc ta coù coâng thöùc vaän toác töùc thôøi taïi thôøi ñieåm t cuûa chaát ñieåm chuyeån ñoäng thaúng bieán ñoåi ñeàu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52000" y="5013000"/>
            <a:ext cx="281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NI-Helve"/>
              </a:rPr>
              <a:t>v  =  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NI-Helve"/>
              </a:rPr>
              <a:t>  +  at</a:t>
            </a:r>
            <a:r>
              <a:rPr b="1" lang="en-US" sz="36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387680" y="508176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9080" y="1556280"/>
            <a:ext cx="56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Keát hôïp  (2) vaø (1) ta coù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7440" y="3754800"/>
            <a:ext cx="480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Neáu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=  0  thì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25040" y="4437000"/>
            <a:ext cx="18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Helv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 2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67440" y="554832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348000" y="5189400"/>
            <a:ext cx="1406520" cy="1859400"/>
            <a:chOff x="3348000" y="5189400"/>
            <a:chExt cx="1406520" cy="1859400"/>
          </a:xfrm>
        </p:grpSpPr>
        <p:grpSp>
          <p:nvGrpSpPr>
            <p:cNvPr id="609" name=""/>
            <p:cNvGrpSpPr/>
            <p:nvPr/>
          </p:nvGrpSpPr>
          <p:grpSpPr>
            <a:xfrm>
              <a:off x="3759120" y="5271840"/>
              <a:ext cx="995400" cy="1776960"/>
              <a:chOff x="3759120" y="5271840"/>
              <a:chExt cx="995400" cy="1776960"/>
            </a:xfrm>
          </p:grpSpPr>
          <p:sp>
            <p:nvSpPr>
              <p:cNvPr id="610" name=""/>
              <p:cNvSpPr/>
              <p:nvPr/>
            </p:nvSpPr>
            <p:spPr>
              <a:xfrm>
                <a:off x="3830400" y="5271840"/>
                <a:ext cx="9241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s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759120" y="591948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a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59120" y="591948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348000" y="5189400"/>
              <a:ext cx="1190520" cy="1162080"/>
            </a:xfrm>
            <a:custGeom>
              <a:avLst/>
              <a:gdLst/>
              <a:ahLst/>
              <a:rect l="l" t="t" r="r" b="b"/>
              <a:pathLst>
                <a:path w="750" h="732">
                  <a:moveTo>
                    <a:pt x="0" y="299"/>
                  </a:moveTo>
                  <a:lnTo>
                    <a:pt x="126" y="732"/>
                  </a:lnTo>
                  <a:lnTo>
                    <a:pt x="246" y="0"/>
                  </a:lnTo>
                  <a:lnTo>
                    <a:pt x="75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495440" y="5276880"/>
            <a:ext cx="106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a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042920" y="2349360"/>
            <a:ext cx="4176720" cy="1223640"/>
            <a:chOff x="1042920" y="2349360"/>
            <a:chExt cx="4176720" cy="1223640"/>
          </a:xfrm>
        </p:grpSpPr>
        <p:sp>
          <p:nvSpPr>
            <p:cNvPr id="616" name=""/>
            <p:cNvSpPr/>
            <p:nvPr/>
          </p:nvSpPr>
          <p:spPr>
            <a:xfrm>
              <a:off x="1258920" y="2523960"/>
              <a:ext cx="38894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v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 – v</a:t>
              </a:r>
              <a:r>
                <a:rPr b="0" lang="en-US" sz="4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 = 2as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42920" y="2349360"/>
              <a:ext cx="4176720" cy="1223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VNI-Times"/>
              </a:rPr>
              <a:t>Caâu 2 : Chuyeån ñoäng cuûa vaät naøo sau ñaây laø tònh tieán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Baùnh xe oâ toâ ñang chuyeån ñoäng treân ñöôøng thaú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ruïc baùnh xe oâ toâ ñang chuyeån ñoäng treân ñöôøng thaú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Pit toâng xi lanh ñoäng cô oâ toâ ñang chaïy treân ñöôøng voø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Kim ñoàng hoà ñang chaïy. 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VNI-Times"/>
              </a:rPr>
              <a:t>Caâu 3 : Trong chuyeån ñoäng thaúng bieán ñoåi ñeàu, caâu naøo sau ñaây laø ñuùng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Gia toác laø ñaïi löôïng bieán ñoåi ñeàu theo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Gia toác cuûa chuyeån ñoäng baèng heä soá goùc cuûa ñoà thò vaän toác-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eáu vaän toác v cuøng daáu vôùi gia toác a thì ñoù laø chuyeån ñoäng chaäm daàn ñeàu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eáu vec tô vaän toác ngöôïc chieàu vec tô gia toác thì ñoù laø chuyeån ñoäng nhanh daàn ñeàu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NI-Times"/>
              </a:rPr>
              <a:t>Caâu 4: Moät oâ toâ ñang chaïy treân ñöôøng thaúng vôùi vaän toác 25m/s, sau 2 s, vaän toác cuûa noù laø 72km/h. Gia toác trung bình cuûa oâ toâ trong khoaûng thôøi gian ñoù laø:</a:t>
            </a:r>
            <a:endParaRPr b="1" lang="en-US" sz="36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2,0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-2,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3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- 2,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6732720" y="551664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Ñaùp a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700360" y="981000"/>
            <a:ext cx="3240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Ñaùp aùn :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1C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2B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3B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4D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5280" y="66600"/>
            <a:ext cx="2016000" cy="173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VNI-Times"/>
              </a:rPr>
              <a:t>Baøi 5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242100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NI-Helve"/>
              </a:rPr>
              <a:t>CHUYEÅN ÑOÄNG THAÚ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NI-Helve"/>
              <a:ea typeface="VNI-Helv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00000" y="4149720"/>
            <a:ext cx="712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VNI-Helve"/>
              </a:rPr>
              <a:t>BIEÁN ÑOÅI ÑEÀ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VNI-Helve"/>
              <a:ea typeface="VNI-Helv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41300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VNI-Ariston"/>
              </a:rPr>
              <a:t>Phöông Trìn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VNI-Ariston"/>
              <a:ea typeface="VNI-Aristo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7093080" y="765000"/>
            <a:ext cx="718920" cy="79236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805">
                <a:moveTo>
                  <a:pt x="0" y="0"/>
                </a:moveTo>
                <a:lnTo>
                  <a:pt x="21600" y="0"/>
                </a:lnTo>
                <a:lnTo>
                  <a:pt x="21600" y="23805"/>
                </a:lnTo>
                <a:lnTo>
                  <a:pt x="0" y="23805"/>
                </a:lnTo>
                <a:close/>
              </a:path>
              <a:path fill="lightenLess" w="21600" h="23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05">
                <a:moveTo>
                  <a:pt x="21600" y="0"/>
                </a:moveTo>
                <a:lnTo>
                  <a:pt x="21600" y="23805"/>
                </a:lnTo>
                <a:lnTo>
                  <a:pt x="20200" y="22405"/>
                </a:lnTo>
                <a:lnTo>
                  <a:pt x="20200" y="1400"/>
                </a:lnTo>
                <a:close/>
              </a:path>
              <a:path fill="darkenLess" w="21600" h="23805">
                <a:moveTo>
                  <a:pt x="21600" y="23805"/>
                </a:moveTo>
                <a:lnTo>
                  <a:pt x="0" y="23805"/>
                </a:lnTo>
                <a:lnTo>
                  <a:pt x="1400" y="22405"/>
                </a:lnTo>
                <a:lnTo>
                  <a:pt x="20200" y="22405"/>
                </a:lnTo>
                <a:close/>
              </a:path>
              <a:path fill="lighten" w="21600" h="23805">
                <a:moveTo>
                  <a:pt x="0" y="23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05"/>
                </a:lnTo>
                <a:close/>
              </a:path>
              <a:path fill="darken" w="21600" h="23805">
                <a:moveTo>
                  <a:pt x="10800" y="159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805">
                <a:moveTo>
                  <a:pt x="11905" y="15384"/>
                </a:moveTo>
                <a:lnTo>
                  <a:pt x="11905" y="13426"/>
                </a:lnTo>
                <a:cubicBezTo>
                  <a:pt x="11905" y="12599"/>
                  <a:pt x="12236" y="11903"/>
                  <a:pt x="12837" y="11903"/>
                </a:cubicBezTo>
                <a:cubicBezTo>
                  <a:pt x="13968" y="11903"/>
                  <a:pt x="14865" y="10536"/>
                  <a:pt x="14865" y="8952"/>
                </a:cubicBezTo>
                <a:cubicBezTo>
                  <a:pt x="14865" y="6637"/>
                  <a:pt x="13011" y="4896"/>
                  <a:pt x="10800" y="4896"/>
                </a:cubicBezTo>
                <a:cubicBezTo>
                  <a:pt x="8589" y="4896"/>
                  <a:pt x="6918" y="6637"/>
                  <a:pt x="6918" y="8952"/>
                </a:cubicBezTo>
                <a:lnTo>
                  <a:pt x="8772" y="8952"/>
                </a:lnTo>
                <a:cubicBezTo>
                  <a:pt x="8772" y="7812"/>
                  <a:pt x="9695" y="6924"/>
                  <a:pt x="10800" y="6924"/>
                </a:cubicBezTo>
                <a:cubicBezTo>
                  <a:pt x="11905" y="6924"/>
                  <a:pt x="12837" y="7812"/>
                  <a:pt x="12837" y="8952"/>
                </a:cubicBezTo>
                <a:cubicBezTo>
                  <a:pt x="12837" y="9692"/>
                  <a:pt x="12367" y="10423"/>
                  <a:pt x="11905" y="10423"/>
                </a:cubicBezTo>
                <a:cubicBezTo>
                  <a:pt x="10800" y="10423"/>
                  <a:pt x="9695" y="11903"/>
                  <a:pt x="9695" y="13426"/>
                </a:cubicBezTo>
                <a:lnTo>
                  <a:pt x="9695" y="15384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39640" y="692280"/>
            <a:ext cx="8064720" cy="4608360"/>
          </a:xfrm>
          <a:prstGeom prst="cloudCallout">
            <a:avLst>
              <a:gd name="adj1" fmla="val -35041"/>
              <a:gd name="adj2" fmla="val 63745"/>
            </a:avLst>
          </a:prstGeom>
          <a:solidFill>
            <a:srgbClr val="0066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Phöông trình chuyeån ñoäng thaúng ñeàu coù daïng nhö theá naø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6227640" y="5589720"/>
            <a:ext cx="2376720" cy="7189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71384" h="21600">
                <a:moveTo>
                  <a:pt x="0" y="0"/>
                </a:moveTo>
                <a:lnTo>
                  <a:pt x="71384" y="0"/>
                </a:lnTo>
                <a:lnTo>
                  <a:pt x="71384" y="21600"/>
                </a:lnTo>
                <a:lnTo>
                  <a:pt x="0" y="21600"/>
                </a:lnTo>
                <a:close/>
              </a:path>
              <a:path fill="lightenLess" w="71384" h="21600">
                <a:moveTo>
                  <a:pt x="0" y="0"/>
                </a:moveTo>
                <a:lnTo>
                  <a:pt x="71384" y="0"/>
                </a:lnTo>
                <a:lnTo>
                  <a:pt x="69984" y="1400"/>
                </a:lnTo>
                <a:lnTo>
                  <a:pt x="1400" y="1400"/>
                </a:lnTo>
                <a:close/>
              </a:path>
              <a:path fill="darken" w="71384" h="21600">
                <a:moveTo>
                  <a:pt x="71384" y="0"/>
                </a:moveTo>
                <a:lnTo>
                  <a:pt x="71384" y="21600"/>
                </a:lnTo>
                <a:lnTo>
                  <a:pt x="69984" y="20200"/>
                </a:lnTo>
                <a:lnTo>
                  <a:pt x="69984" y="1400"/>
                </a:lnTo>
                <a:close/>
              </a:path>
              <a:path fill="darkenLess" w="71384" h="21600">
                <a:moveTo>
                  <a:pt x="7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84" y="20200"/>
                </a:lnTo>
                <a:close/>
              </a:path>
              <a:path fill="lighten" w="7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Traû lôø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0:07:27Z</dcterms:created>
  <dc:creator>Do Hieu Thao</dc:creator>
  <dc:description/>
  <dc:language>en-US</dc:language>
  <cp:lastModifiedBy>User</cp:lastModifiedBy>
  <dcterms:modified xsi:type="dcterms:W3CDTF">2010-09-06T05:16:01Z</dcterms:modified>
  <cp:revision>178</cp:revision>
  <dc:subject/>
  <dc:title>Slide 1</dc:title>
</cp:coreProperties>
</file>