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61E-3A4C-44D9-957A-D1899CA9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1C2-6C35-4E24-BF2B-59F707C3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05C-B27A-443D-A8EA-1A6DB16B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512-AE3F-4D88-9560-88160A6A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FB0-CE71-4ECF-9382-A96279D4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0240-2B75-41F3-A152-27B72E6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A7A3-FC4C-4F92-8ED2-F2D45390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AFF-7F7F-4517-92F2-DE79D81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C0C-D994-47A0-8A35-86522CEE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BE5-AB70-4F95-A48D-CFD013D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36A-D8CA-4C3D-9B1C-E9B0BE3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701-D777-4E4C-9AA3-1A62CFE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CCCF-B3D8-4BF6-A036-E04D7E9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C87-3E2A-4416-8552-6AA1302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4776-F049-47E0-BCC7-52EECEF3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C9BC-B3FD-42B3-BA4F-1ED4A5E5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622E-E8B0-4A1C-A03E-3B1CA10C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883C9-3B55-4E5D-8995-D05D040E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986FF-2E14-4EDD-84C1-A342B2D3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FF64D-693C-48B6-AB86-63FBD9B7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B585D-291C-44F7-AB42-49AADE1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929C1-2C72-4D95-8BFE-A4AAEC57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0FB-DA9A-42BC-A9EA-1E30C8B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0EB99-861E-4511-84CC-193A545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084BA-7932-49B4-B784-4331062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34B34-7BA6-404A-9A06-102E852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3B093-5F20-4238-A840-01A35A7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24804-2E7B-4F4B-BCB6-E9714A6E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4647A-7452-4920-BBD8-47B07A35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D6467-6407-411B-8ED2-63A4CE60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F9B7-2E10-4A18-A004-F0037852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6AB8-2946-4C11-A7BD-34F0197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B305-4261-4AFF-8165-13F08DC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1D7-0686-47D5-A090-63121817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6300-615C-4B0A-ABB4-455C0B5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FD0A-788A-4D46-8D3D-D723958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CCBB-AC40-40A5-9419-5996F15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B927-D09F-402B-AF38-BB920DD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70DC-E64D-4995-B755-CFF9B6B1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804D-C4F0-4C6B-8BA6-A9C2760F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B9BF-E892-42B8-BEF1-4B76F41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8E72-0F72-4BB1-822C-9B3D47DB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93B4-FD92-49FC-969B-A7F143DD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A8721-4ECC-4F8F-8080-65BAF7CE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1AA-BCCE-4F1A-B13B-12B5E4FB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8BD46-8301-4626-A01D-01F5B7F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0BFCA-A6E4-467A-BA77-1F920BBA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A73A7-0FC6-4F21-B7B9-C8398BD8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E29C1-0790-4423-AEC4-EEC1E74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BDC15-F6E3-4612-AF42-F466004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BBEEE-BB36-4D49-ADB3-F626014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B1306-3EED-4570-8861-14F5C11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CE1AD-7D4A-415A-92DE-5845762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EFEFC-DF3C-4973-928B-D7057B4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99325-1345-478F-BF07-AC52A32A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5B7-D37D-40D7-8B22-71C3EB0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3764E-2B62-4652-B4F7-148E741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570B-AECB-4CB7-B5AA-033B78E2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E822-DCDB-43E8-A6DC-3DDFBC2F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2321-D73C-4BF2-BF1A-4C68C72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6614-571F-424D-923D-4EC53D7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BE4F5-7C30-448E-8503-866E59C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68DC-B2DA-4183-9EFB-92FCA71A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AE75-ED0A-44B9-B564-5636158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F612-7406-413C-BEAF-ADD0037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579A-399D-4432-83F5-C3060D1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0C1-DAD3-4334-8F20-AE583A8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B247-5BFC-4928-96D5-0CFAC92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22BE-96D7-4A69-9F9F-A9896562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C79FC-53FB-44AE-8F53-A537EE82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DCD2-4F45-4888-9B27-47B75EC6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7246-0AAD-4E9F-BC88-57D134B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9501-8BAE-4836-B71D-D758113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57EB-F86A-408E-A667-A2A22C55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ABE4-30C3-4710-858F-ACDACEC7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3C5E-EE20-4687-AEDF-BAFB00A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253D-03D8-4A3A-A44D-4591187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1FB-D229-4691-BAF6-A1CEB23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F5B6F-5291-4CC1-8799-D31B7F11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9C54-A9BE-4B34-86DC-DD4E08F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E9FC-CCE7-4EEC-A212-4D7CDD12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4E47-D978-4010-8183-06F87B3A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3728-4249-4D78-AC43-FE1B3654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387-D420-4603-832E-5DB2CBC7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92F-AA71-4B2F-ADA0-9DACBAEF6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E8FE-2D0F-4B71-BBEF-BF50149DE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VNI-Times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DBFF-A11D-420D-9F02-55203D96E97E}" type="slidenum">
              <a:rPr b="0" lang="en-US" sz="10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VNI-Times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VNI-Time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NI-Time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NI-Time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08FD-0784-4F3C-BC3E-DF0D74B94C93}" type="slidenum">
              <a:rPr b="0" lang="en-US" sz="1000" spc="-1" strike="noStrike">
                <a:solidFill>
                  <a:srgbClr val="000000"/>
                </a:solidFill>
                <a:latin typeface="VNI-Time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9CA-0C44-4E49-ACBB-FC14A9578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NI-Time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NI-Times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1EE-6DC9-4DDB-BA2E-E2E249D892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NI-Times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NI-Times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239-C3A4-4605-9CBE-B447C09F3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993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où 4 caâu hoûi traéc nghieäm, moãi caâu coù 4 löïa choïn, trong ñoù coù 1 ñaùp aùn ñuù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Moãi caâu xuaát hieän trong thôøi gian töø 30 giaây ñeán 45 giaây ñeå HS vöøa ñoïc, vöøa suy nghó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Hoc sinh choïn ñaùp aùn ñuùng, ghi vaøo giaáy coù saün hoï teân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Ví duï caâu 1 choïn A thì ghi  1A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NI-Times"/>
              </a:rPr>
              <a:t>Kieåm tra baøi cuõ</a:t>
            </a:r>
            <a:endParaRPr b="1" lang="en-US" sz="6000" spc="-1" strike="noStrike">
              <a:solidFill>
                <a:srgbClr val="e5e5ff"/>
              </a:solidFill>
              <a:latin typeface="VNI-Times"/>
            </a:endParaRPr>
          </a:p>
        </p:txBody>
      </p:sp>
    </p:spTree>
  </p:cSld>
  <p:transition advTm="4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  <p:sp>
        <p:nvSpPr>
          <p:cNvPr id="446" name=""/>
          <p:cNvSpPr/>
          <p:nvPr/>
        </p:nvSpPr>
        <p:spPr>
          <a:xfrm>
            <a:off x="2124000" y="1413000"/>
            <a:ext cx="5400720" cy="143964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60093"/>
                </a:solidFill>
                <a:latin typeface="VNI-Helve"/>
              </a:rPr>
              <a:t>x = x</a:t>
            </a:r>
            <a:r>
              <a:rPr b="0" lang="en-US" sz="4800" spc="-1" strike="noStrike" baseline="-25000">
                <a:solidFill>
                  <a:srgbClr val="d60093"/>
                </a:solidFill>
                <a:latin typeface="VNI-Helve"/>
              </a:rPr>
              <a:t>0</a:t>
            </a:r>
            <a:r>
              <a:rPr b="0" lang="en-US" sz="4800" spc="-1" strike="noStrike">
                <a:solidFill>
                  <a:srgbClr val="d60093"/>
                </a:solidFill>
                <a:latin typeface="VNI-Helve"/>
              </a:rPr>
              <a:t> + v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00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Trong ñoù vaän toác v coù ñaëc ñieåm gì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5373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Helve"/>
              </a:rPr>
              <a:t>V = haèng so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01080" y="2060640"/>
            <a:ext cx="503280" cy="863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863640"/>
              <a:gd name="textAreaBottom" fmla="*/ 831240 h 863640"/>
            </a:gdLst>
            <a:ahLst/>
            <a:rect l="textAreaLeft" t="textAreaTop" r="textAreaRight" b="textAreaBottom"/>
            <a:pathLst>
              <a:path w="21600" h="37055">
                <a:moveTo>
                  <a:pt x="0" y="0"/>
                </a:moveTo>
                <a:lnTo>
                  <a:pt x="21600" y="0"/>
                </a:lnTo>
                <a:lnTo>
                  <a:pt x="21600" y="37055"/>
                </a:lnTo>
                <a:lnTo>
                  <a:pt x="0" y="37055"/>
                </a:lnTo>
                <a:close/>
              </a:path>
              <a:path fill="lightenLess" w="21600" h="370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055">
                <a:moveTo>
                  <a:pt x="21600" y="0"/>
                </a:moveTo>
                <a:lnTo>
                  <a:pt x="21600" y="37055"/>
                </a:lnTo>
                <a:lnTo>
                  <a:pt x="20200" y="35655"/>
                </a:lnTo>
                <a:lnTo>
                  <a:pt x="20200" y="1400"/>
                </a:lnTo>
                <a:close/>
              </a:path>
              <a:path fill="darkenLess" w="21600" h="37055">
                <a:moveTo>
                  <a:pt x="21600" y="37055"/>
                </a:moveTo>
                <a:lnTo>
                  <a:pt x="0" y="37055"/>
                </a:lnTo>
                <a:lnTo>
                  <a:pt x="1400" y="35655"/>
                </a:lnTo>
                <a:lnTo>
                  <a:pt x="20200" y="35655"/>
                </a:lnTo>
                <a:close/>
              </a:path>
              <a:path fill="lighten" w="21600" h="37055">
                <a:moveTo>
                  <a:pt x="0" y="370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655"/>
                </a:lnTo>
                <a:close/>
              </a:path>
              <a:path fill="darken" w="21600" h="37055">
                <a:moveTo>
                  <a:pt x="10800" y="225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055">
                <a:moveTo>
                  <a:pt x="11905" y="22009"/>
                </a:moveTo>
                <a:lnTo>
                  <a:pt x="11905" y="20051"/>
                </a:lnTo>
                <a:cubicBezTo>
                  <a:pt x="11905" y="19224"/>
                  <a:pt x="12236" y="18528"/>
                  <a:pt x="12837" y="18528"/>
                </a:cubicBezTo>
                <a:cubicBezTo>
                  <a:pt x="13968" y="18528"/>
                  <a:pt x="14865" y="17161"/>
                  <a:pt x="14865" y="15577"/>
                </a:cubicBezTo>
                <a:cubicBezTo>
                  <a:pt x="14865" y="13262"/>
                  <a:pt x="13011" y="11521"/>
                  <a:pt x="10800" y="11521"/>
                </a:cubicBezTo>
                <a:cubicBezTo>
                  <a:pt x="8589" y="11521"/>
                  <a:pt x="6918" y="13262"/>
                  <a:pt x="6918" y="15577"/>
                </a:cubicBezTo>
                <a:lnTo>
                  <a:pt x="8772" y="15577"/>
                </a:lnTo>
                <a:cubicBezTo>
                  <a:pt x="8772" y="14437"/>
                  <a:pt x="9695" y="13549"/>
                  <a:pt x="10800" y="13549"/>
                </a:cubicBezTo>
                <a:cubicBezTo>
                  <a:pt x="11905" y="13549"/>
                  <a:pt x="12837" y="14437"/>
                  <a:pt x="12837" y="15577"/>
                </a:cubicBezTo>
                <a:cubicBezTo>
                  <a:pt x="12837" y="16317"/>
                  <a:pt x="12367" y="17048"/>
                  <a:pt x="11905" y="17048"/>
                </a:cubicBezTo>
                <a:cubicBezTo>
                  <a:pt x="10800" y="17048"/>
                  <a:pt x="9695" y="18528"/>
                  <a:pt x="9695" y="20051"/>
                </a:cubicBezTo>
                <a:lnTo>
                  <a:pt x="9695" y="2200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Times"/>
              </a:rPr>
              <a:t>Trong chuyeån ñoäng thaúng bieán ñoåi ñeàu thì vaän toác v coù ñaëc ñieåm gì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2492280"/>
            <a:ext cx="8351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Vaän toác v bieán ñoåi theo thôøi g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v = v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+ 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8360" y="458136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VNI-Helve"/>
              </a:rPr>
              <a:t>Laøm theá naøo ñeå söû dung ñöôïc phöông trình cuûa chuyeån ñoäng thaúng ñeà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892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VNI-Helve"/>
              </a:rPr>
              <a:t>1) </a:t>
            </a: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882800"/>
            <a:ext cx="83516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Taïi thôøi ñieåm ban ñaàu t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= 0, chaát ñieåm coù vaän toác v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vaø toïa ñoä x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2909160"/>
            <a:ext cx="8496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VNI-Helve"/>
              </a:rPr>
              <a:t>Taïi thôøi ñieåm baát kyø t , chaát ñieåm coù vaän toác  v  vaø toïa ñoä  x</a:t>
            </a: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v  =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+  a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1920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144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88000" y="538812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52360" y="4648320"/>
            <a:ext cx="8207280" cy="812520"/>
            <a:chOff x="252360" y="4648320"/>
            <a:chExt cx="8207280" cy="812520"/>
          </a:xfrm>
        </p:grpSpPr>
        <p:sp>
          <p:nvSpPr>
            <p:cNvPr id="461" name=""/>
            <p:cNvSpPr/>
            <p:nvPr/>
          </p:nvSpPr>
          <p:spPr>
            <a:xfrm>
              <a:off x="2523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344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71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100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2568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192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080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8656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59640" y="464832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840" y="4956120"/>
            <a:ext cx="425520" cy="425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00" y="5391000"/>
            <a:ext cx="9013680" cy="38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20" y="6234120"/>
            <a:ext cx="785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     A(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)                              B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4290840"/>
            <a:ext cx="57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VNI-Helve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88000" y="436248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47640" y="4290840"/>
            <a:ext cx="4969080" cy="1068840"/>
            <a:chOff x="1547640" y="4290840"/>
            <a:chExt cx="4969080" cy="1068840"/>
          </a:xfrm>
        </p:grpSpPr>
        <p:sp>
          <p:nvSpPr>
            <p:cNvPr id="476" name=""/>
            <p:cNvSpPr/>
            <p:nvPr/>
          </p:nvSpPr>
          <p:spPr>
            <a:xfrm flipV="1" rot="5400000">
              <a:off x="3816360" y="2599200"/>
              <a:ext cx="431640" cy="4969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129600 h 4969080"/>
                <a:gd name="textAreaBottom" fmla="*/ 4839480 h 496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76760" y="4290840"/>
              <a:ext cx="56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90520" y="5824080"/>
            <a:ext cx="1204920" cy="774720"/>
            <a:chOff x="290520" y="5824080"/>
            <a:chExt cx="1204920" cy="774720"/>
          </a:xfrm>
        </p:grpSpPr>
        <p:sp>
          <p:nvSpPr>
            <p:cNvPr id="479" name=""/>
            <p:cNvSpPr/>
            <p:nvPr/>
          </p:nvSpPr>
          <p:spPr>
            <a:xfrm rot="16200000">
              <a:off x="787320" y="5327280"/>
              <a:ext cx="211320" cy="120492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31320 h 1204920"/>
                <a:gd name="textAreaBottom" fmla="*/ 117360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6040" y="5950080"/>
              <a:ext cx="529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r>
                <a:rPr b="0" lang="en-US" sz="3200" spc="-1" strike="noStrike" baseline="-25000">
                  <a:solidFill>
                    <a:srgbClr val="66ff66"/>
                  </a:solidFill>
                  <a:latin typeface="VNI-Helve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90520" y="5949720"/>
            <a:ext cx="6297480" cy="762480"/>
            <a:chOff x="290520" y="5949720"/>
            <a:chExt cx="6297480" cy="762480"/>
          </a:xfrm>
        </p:grpSpPr>
        <p:sp>
          <p:nvSpPr>
            <p:cNvPr id="482" name=""/>
            <p:cNvSpPr/>
            <p:nvPr/>
          </p:nvSpPr>
          <p:spPr>
            <a:xfrm rot="16200000">
              <a:off x="3292560" y="2947680"/>
              <a:ext cx="293400" cy="6297480"/>
            </a:xfrm>
            <a:custGeom>
              <a:avLst/>
              <a:gdLst>
                <a:gd name="textAreaLeft" fmla="*/ 187560 w 293400"/>
                <a:gd name="textAreaRight" fmla="*/ 293760 w 293400"/>
                <a:gd name="textAreaTop" fmla="*/ 164160 h 6297480"/>
                <a:gd name="textAreaBottom" fmla="*/ 6133320 h 62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64480" y="613080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678 7.40741E-007 E">
                                      <p:cBhvr>
                                        <p:cTn id="207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2.22222E-006 L 0.01979 2.22222E-006 E">
                                      <p:cBhvr>
                                        <p:cTn id="210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7.40741E-007 L 0.03941 7.40741E-007 E">
                                      <p:cBhvr>
                                        <p:cTn id="213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7.40741E-007 L 0.06545 7.40741E-007 E">
                                      <p:cBhvr>
                                        <p:cTn id="216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3.7037E-006 L 0.09757 -3.7037E-006 E">
                                      <p:cBhvr>
                                        <p:cTn id="219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7.40741E-007 L 0.13767 7.40741E-007 E">
                                      <p:cBhvr>
                                        <p:cTn id="222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7.40741E-007 L 0.18125 7.40741E-007 E">
                                      <p:cBhvr>
                                        <p:cTn id="228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7.40741E-007 L 0.23629 7.40741E-007 E">
                                      <p:cBhvr>
                                        <p:cTn id="231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7.40741E-007 L 0.29549 7.40741E-007 E">
                                      <p:cBhvr>
                                        <p:cTn id="234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49 7.40741E-007 L 0.36233 7.40741E-007 E">
                                      <p:cBhvr>
                                        <p:cTn id="237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7.40741E-007 L 0.43316 7.40741E-007 E">
                                      <p:cBhvr>
                                        <p:cTn id="240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316 7.40741E-007 L 0.51615 7.40741E-007 E">
                                      <p:cBhvr>
                                        <p:cTn id="243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15 7.40741E-007 L 0.6007 7.40741E-007 E">
                                      <p:cBhvr>
                                        <p:cTn id="246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7 7.40741E-007 L 0.69254 7.40741E-007 E">
                                      <p:cBhvr>
                                        <p:cTn id="249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254 7.40741E-007 L 0.79392 7.40741E-007 E">
                                      <p:cBhvr>
                                        <p:cTn id="258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392 7.40741E-007 L 0.9033 7.40741E-007 E">
                                      <p:cBhvr>
                                        <p:cTn id="261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1280" y="765000"/>
            <a:ext cx="6697440" cy="482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66ff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Laøm theá naøo ñeå vaän duïng ñöôïc phöông trình chuyeån ñoäng thaúng ñeà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24000" y="1714680"/>
            <a:ext cx="849600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ì vaän toác laø moät haøm baäc nhaát theo thôøi gian, khi chaát ñieåm thöïc hieän ñoä dôøi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trong khoaûng thôøi gian  t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=  t   ta coù theå coi chuyeån ñoäng cuûa chaát ñieåm laø thaúng ñeàu vôùi vaän toác baèng trung bình cuûa vaän toác ban ñaàu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vaø vaän toác cuoái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83520" y="2056680"/>
            <a:ext cx="36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VNI-Helve"/>
              </a:rPr>
              <a:t>Khi ñoù ta coù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32600" y="2848320"/>
            <a:ext cx="79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1" lang="en-US" sz="4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2720" y="4038840"/>
            <a:ext cx="251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  =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+  at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78320" y="3932640"/>
            <a:ext cx="79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1" lang="en-US" sz="4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49400" y="2959200"/>
                <a:ext cx="25146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0595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öø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va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, ta coù phöông trình chuyeån ñoäng thaúng bieán ñoåi ñeàu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260360" y="3179880"/>
            <a:ext cx="5112000" cy="1776960"/>
            <a:chOff x="1260360" y="3179880"/>
            <a:chExt cx="5112000" cy="1776960"/>
          </a:xfrm>
        </p:grpSpPr>
        <p:sp>
          <p:nvSpPr>
            <p:cNvPr id="499" name=""/>
            <p:cNvSpPr/>
            <p:nvPr/>
          </p:nvSpPr>
          <p:spPr>
            <a:xfrm>
              <a:off x="4356000" y="3179880"/>
              <a:ext cx="4539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84720" y="3827520"/>
              <a:ext cx="922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60360" y="3467160"/>
              <a:ext cx="51120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84720" y="3827520"/>
              <a:ext cx="698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5440" y="447732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Coâng thöù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goïi laø phöông trình chuyeån ñoäng thaúng bieán ñoåi ñeàu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69680" y="344736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8000" y="109692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a) Thieát laäp phöông trìn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260360" y="2133720"/>
            <a:ext cx="5112000" cy="1776960"/>
            <a:chOff x="1260360" y="2133720"/>
            <a:chExt cx="5112000" cy="1776960"/>
          </a:xfrm>
        </p:grpSpPr>
        <p:sp>
          <p:nvSpPr>
            <p:cNvPr id="508" name=""/>
            <p:cNvSpPr/>
            <p:nvPr/>
          </p:nvSpPr>
          <p:spPr>
            <a:xfrm>
              <a:off x="4356000" y="2133720"/>
              <a:ext cx="45396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84720" y="2781360"/>
              <a:ext cx="922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60360" y="2421000"/>
              <a:ext cx="51120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84720" y="2781360"/>
              <a:ext cx="698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69680" y="2401200"/>
            <a:ext cx="7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1920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144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8000" y="4597560"/>
            <a:ext cx="0" cy="74916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52360" y="3857760"/>
            <a:ext cx="8207280" cy="812520"/>
            <a:chOff x="252360" y="3857760"/>
            <a:chExt cx="8207280" cy="812520"/>
          </a:xfrm>
        </p:grpSpPr>
        <p:sp>
          <p:nvSpPr>
            <p:cNvPr id="517" name=""/>
            <p:cNvSpPr/>
            <p:nvPr/>
          </p:nvSpPr>
          <p:spPr>
            <a:xfrm>
              <a:off x="2523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344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71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2100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568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7192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6080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8656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59640" y="3857760"/>
              <a:ext cx="0" cy="812520"/>
            </a:xfrm>
            <a:prstGeom prst="line">
              <a:avLst/>
            </a:prstGeom>
            <a:ln w="3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8160" y="4165560"/>
            <a:ext cx="425520" cy="425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00" y="4600440"/>
            <a:ext cx="9013680" cy="38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0" y="5443560"/>
            <a:ext cx="785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     A(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)                              B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47640" y="3500280"/>
            <a:ext cx="57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VNI-Helve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88000" y="3571920"/>
            <a:ext cx="56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Helve"/>
              </a:rPr>
              <a:t>v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VNI-Helv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47640" y="3500280"/>
            <a:ext cx="4969080" cy="1068840"/>
            <a:chOff x="1547640" y="3500280"/>
            <a:chExt cx="4969080" cy="1068840"/>
          </a:xfrm>
        </p:grpSpPr>
        <p:sp>
          <p:nvSpPr>
            <p:cNvPr id="532" name=""/>
            <p:cNvSpPr/>
            <p:nvPr/>
          </p:nvSpPr>
          <p:spPr>
            <a:xfrm flipV="1" rot="5400000">
              <a:off x="3816360" y="1808640"/>
              <a:ext cx="431640" cy="4969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129600 h 4969080"/>
                <a:gd name="textAreaBottom" fmla="*/ 4839480 h 496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76760" y="3500280"/>
              <a:ext cx="56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90520" y="5033520"/>
            <a:ext cx="1204920" cy="774720"/>
            <a:chOff x="290520" y="5033520"/>
            <a:chExt cx="1204920" cy="774720"/>
          </a:xfrm>
        </p:grpSpPr>
        <p:sp>
          <p:nvSpPr>
            <p:cNvPr id="535" name=""/>
            <p:cNvSpPr/>
            <p:nvPr/>
          </p:nvSpPr>
          <p:spPr>
            <a:xfrm rot="16200000">
              <a:off x="787320" y="4536720"/>
              <a:ext cx="211320" cy="1204920"/>
            </a:xfrm>
            <a:custGeom>
              <a:avLst/>
              <a:gdLst>
                <a:gd name="textAreaLeft" fmla="*/ 135000 w 211320"/>
                <a:gd name="textAreaRight" fmla="*/ 211680 w 211320"/>
                <a:gd name="textAreaTop" fmla="*/ 31320 h 1204920"/>
                <a:gd name="textAreaBottom" fmla="*/ 1173600 h 12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6040" y="5159520"/>
              <a:ext cx="529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r>
                <a:rPr b="0" lang="en-US" sz="3200" spc="-1" strike="noStrike" baseline="-25000">
                  <a:solidFill>
                    <a:srgbClr val="66ff66"/>
                  </a:solidFill>
                  <a:latin typeface="VNI-Helve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90520" y="5159160"/>
            <a:ext cx="6297480" cy="762480"/>
            <a:chOff x="290520" y="5159160"/>
            <a:chExt cx="6297480" cy="762480"/>
          </a:xfrm>
        </p:grpSpPr>
        <p:sp>
          <p:nvSpPr>
            <p:cNvPr id="538" name=""/>
            <p:cNvSpPr/>
            <p:nvPr/>
          </p:nvSpPr>
          <p:spPr>
            <a:xfrm rot="16200000">
              <a:off x="3292560" y="2157120"/>
              <a:ext cx="293400" cy="6297480"/>
            </a:xfrm>
            <a:custGeom>
              <a:avLst/>
              <a:gdLst>
                <a:gd name="textAreaLeft" fmla="*/ 187560 w 293400"/>
                <a:gd name="textAreaRight" fmla="*/ 293760 w 293400"/>
                <a:gd name="textAreaTop" fmla="*/ 164160 h 6297480"/>
                <a:gd name="textAreaBottom" fmla="*/ 6133320 h 629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4480" y="5340240"/>
              <a:ext cx="3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VNI-Helve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678 7.40741E-007 E">
                                      <p:cBhvr>
                                        <p:cTn id="284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2.22222E-006 L 0.01979 2.22222E-006 E">
                                      <p:cBhvr>
                                        <p:cTn id="287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7.40741E-007 L 0.03941 7.40741E-007 E">
                                      <p:cBhvr>
                                        <p:cTn id="29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7.40741E-007 L 0.06545 7.40741E-007 E">
                                      <p:cBhvr>
                                        <p:cTn id="293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45 -3.7037E-006 L 0.09757 -3.7037E-006 E">
                                      <p:cBhvr>
                                        <p:cTn id="296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7.40741E-007 L 0.13767 7.40741E-007 E">
                                      <p:cBhvr>
                                        <p:cTn id="299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7.40741E-007 L 0.18125 7.40741E-007 E">
                                      <p:cBhvr>
                                        <p:cTn id="30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25 7.40741E-007 L 0.23629 7.40741E-007 E">
                                      <p:cBhvr>
                                        <p:cTn id="308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9 7.40741E-007 L 0.29549 7.40741E-007 E">
                                      <p:cBhvr>
                                        <p:cTn id="311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49 7.40741E-007 L 0.36233 7.40741E-007 E">
                                      <p:cBhvr>
                                        <p:cTn id="314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7.40741E-007 L 0.43316 7.40741E-007 E">
                                      <p:cBhvr>
                                        <p:cTn id="317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316 7.40741E-007 L 0.51615 7.40741E-007 E">
                                      <p:cBhvr>
                                        <p:cTn id="32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615 7.40741E-007 L 0.6007 7.40741E-007 E">
                                      <p:cBhvr>
                                        <p:cTn id="323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07 7.40741E-007 L 0.69254 7.40741E-007 E">
                                      <p:cBhvr>
                                        <p:cTn id="326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254 7.40741E-007 L 0.79392 7.40741E-007 E">
                                      <p:cBhvr>
                                        <p:cTn id="33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392 7.40741E-007 L 0.9033 7.40741E-007 E">
                                      <p:cBhvr>
                                        <p:cTn id="338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34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Ñöôøng bieåu dieãn söï phuï thuoäc cuûa toïa ñoä theo thôøi gian laø moät ñöôøng parabol.</a:t>
            </a:r>
            <a:r>
              <a:rPr b="1" lang="en-US" sz="28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3080" y="3321720"/>
            <a:ext cx="37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öø phöông trình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24360" y="3035160"/>
            <a:ext cx="5111640" cy="1776960"/>
            <a:chOff x="3924360" y="3035160"/>
            <a:chExt cx="5111640" cy="1776960"/>
          </a:xfrm>
        </p:grpSpPr>
        <p:sp>
          <p:nvSpPr>
            <p:cNvPr id="545" name=""/>
            <p:cNvSpPr/>
            <p:nvPr/>
          </p:nvSpPr>
          <p:spPr>
            <a:xfrm>
              <a:off x="7019640" y="3035160"/>
              <a:ext cx="4536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48360" y="3682800"/>
              <a:ext cx="9219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24360" y="3322440"/>
              <a:ext cx="51116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48360" y="3682800"/>
              <a:ext cx="69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3800" y="4189680"/>
            <a:ext cx="2428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Neáu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768760" y="3933720"/>
            <a:ext cx="4395600" cy="1776960"/>
            <a:chOff x="2768760" y="3933720"/>
            <a:chExt cx="4395600" cy="1776960"/>
          </a:xfrm>
        </p:grpSpPr>
        <p:sp>
          <p:nvSpPr>
            <p:cNvPr id="551" name=""/>
            <p:cNvSpPr/>
            <p:nvPr/>
          </p:nvSpPr>
          <p:spPr>
            <a:xfrm>
              <a:off x="2768760" y="4221000"/>
              <a:ext cx="43956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162400" y="3933720"/>
              <a:ext cx="922320" cy="1776960"/>
              <a:chOff x="5162400" y="3933720"/>
              <a:chExt cx="922320" cy="1776960"/>
            </a:xfrm>
          </p:grpSpPr>
          <p:sp>
            <p:nvSpPr>
              <p:cNvPr id="553" name=""/>
              <p:cNvSpPr/>
              <p:nvPr/>
            </p:nvSpPr>
            <p:spPr>
              <a:xfrm>
                <a:off x="5234040" y="3933720"/>
                <a:ext cx="45396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62400" y="458136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162400" y="458136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90760" y="3573360"/>
            <a:ext cx="1425600" cy="2019240"/>
          </a:xfrm>
          <a:custGeom>
            <a:avLst/>
            <a:gdLst/>
            <a:ahLst/>
            <a:rect l="l" t="t" r="r" b="b"/>
            <a:pathLst>
              <a:path w="998" h="1315">
                <a:moveTo>
                  <a:pt x="0" y="1315"/>
                </a:moveTo>
                <a:cubicBezTo>
                  <a:pt x="166" y="1288"/>
                  <a:pt x="333" y="1262"/>
                  <a:pt x="499" y="1043"/>
                </a:cubicBezTo>
                <a:cubicBezTo>
                  <a:pt x="665" y="824"/>
                  <a:pt x="831" y="412"/>
                  <a:pt x="99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4960" y="241992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Ñoà thò bieåu dieãn x theo t coù daïng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3500280"/>
            <a:ext cx="4248000" cy="2737080"/>
          </a:xfrm>
          <a:custGeom>
            <a:avLst/>
            <a:gdLst/>
            <a:ahLst/>
            <a:rect l="l" t="t" r="r" b="b"/>
            <a:pathLst>
              <a:path w="2676" h="1724">
                <a:moveTo>
                  <a:pt x="0" y="0"/>
                </a:moveTo>
                <a:lnTo>
                  <a:pt x="0" y="1724"/>
                </a:lnTo>
                <a:lnTo>
                  <a:pt x="2676" y="1724"/>
                </a:lnTo>
              </a:path>
            </a:pathLst>
          </a:custGeom>
          <a:noFill/>
          <a:ln w="3816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40680" y="299736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 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74920" y="58770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t (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90640" y="5164200"/>
            <a:ext cx="66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</a:t>
            </a:r>
            <a:r>
              <a:rPr b="0" lang="en-US" sz="3600" spc="-1" strike="noStrike" baseline="-25000">
                <a:solidFill>
                  <a:srgbClr val="ffff66"/>
                </a:solidFill>
                <a:latin typeface="VNI-Helve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5800" y="602784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NI-Helv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15520" y="385992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Helve"/>
              </a:rPr>
              <a:t>Tröôøng hôïp  a &gt;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4000" y="1628280"/>
            <a:ext cx="7993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aâu 1: Choïn caâu ñuù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rong chuyeån ñoäng thaúng ñeàu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A. vaän toác laø haøm baäc nhaát cuûa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B. vaän toâùc trung bình tyû leä vôùi thôøi gian chuyeån ñoä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C. toïa ñoä laø haøm baäc nhaát cuûa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D. toïa ñoä tyû leä thuaän vôùi thôøi gian chuyeån ñoäng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V="1">
            <a:off x="1490760" y="4075920"/>
            <a:ext cx="1425600" cy="2019240"/>
          </a:xfrm>
          <a:custGeom>
            <a:avLst/>
            <a:gdLst/>
            <a:ahLst/>
            <a:rect l="l" t="t" r="r" b="b"/>
            <a:pathLst>
              <a:path w="998" h="1315">
                <a:moveTo>
                  <a:pt x="0" y="1315"/>
                </a:moveTo>
                <a:cubicBezTo>
                  <a:pt x="166" y="1288"/>
                  <a:pt x="333" y="1262"/>
                  <a:pt x="499" y="1043"/>
                </a:cubicBezTo>
                <a:cubicBezTo>
                  <a:pt x="665" y="824"/>
                  <a:pt x="831" y="412"/>
                  <a:pt x="99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1) PHÖÔNG TRÌNH CHUYEÅN ÑOÄNG THAÚNG BIEÁN ÑOÅI ÑEÀ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8000" y="12816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VNI-Helve"/>
              </a:rPr>
              <a:t>b) Ñoà thò phöông trình chuyeån ñoäng thaúng bieán ñoåi ñeàu</a:t>
            </a:r>
            <a:r>
              <a:rPr b="1" lang="en-US" sz="3200" spc="-1" strike="noStrike">
                <a:solidFill>
                  <a:srgbClr val="00ffcc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4960" y="241992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Ñoà thò bieåu dieãn x theo t coù daïng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3500280"/>
            <a:ext cx="4248000" cy="2737080"/>
          </a:xfrm>
          <a:custGeom>
            <a:avLst/>
            <a:gdLst/>
            <a:ahLst/>
            <a:rect l="l" t="t" r="r" b="b"/>
            <a:pathLst>
              <a:path w="2676" h="1724">
                <a:moveTo>
                  <a:pt x="0" y="0"/>
                </a:moveTo>
                <a:lnTo>
                  <a:pt x="0" y="1724"/>
                </a:lnTo>
                <a:lnTo>
                  <a:pt x="2676" y="1724"/>
                </a:lnTo>
              </a:path>
            </a:pathLst>
          </a:custGeom>
          <a:noFill/>
          <a:ln w="38160">
            <a:solidFill>
              <a:srgbClr val="ffff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40680" y="299736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   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74920" y="58770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t (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90640" y="3716280"/>
            <a:ext cx="66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NI-Helve"/>
              </a:rPr>
              <a:t>x</a:t>
            </a:r>
            <a:r>
              <a:rPr b="0" lang="en-US" sz="3600" spc="-1" strike="noStrike" baseline="-25000">
                <a:solidFill>
                  <a:srgbClr val="ffff66"/>
                </a:solidFill>
                <a:latin typeface="VNI-Helve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65800" y="602784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NI-Helve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215520" y="385992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Helve"/>
              </a:rPr>
              <a:t>Tröôøng hôïp  a &lt; 0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116820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Xeùt chaát ñieåm chuyeån ñoäng thaúng bieán ñoåi ñeàu, khi ñoù ta coù phöông trình chuyeån ñoäng thaúng beán ñoåi ñeàu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116000" y="2997360"/>
            <a:ext cx="5111640" cy="1776960"/>
            <a:chOff x="1116000" y="2997360"/>
            <a:chExt cx="5111640" cy="1776960"/>
          </a:xfrm>
        </p:grpSpPr>
        <p:sp>
          <p:nvSpPr>
            <p:cNvPr id="579" name=""/>
            <p:cNvSpPr/>
            <p:nvPr/>
          </p:nvSpPr>
          <p:spPr>
            <a:xfrm>
              <a:off x="4211280" y="2997360"/>
              <a:ext cx="4536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1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3645000"/>
              <a:ext cx="9219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2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16000" y="3284640"/>
              <a:ext cx="51116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x = x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 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+ v</a:t>
              </a:r>
              <a:r>
                <a:rPr b="0" lang="en-US" sz="3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t  +        at</a:t>
              </a:r>
              <a:r>
                <a:rPr b="0" lang="en-US" sz="3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3400" spc="-1" strike="noStrike">
                  <a:solidFill>
                    <a:srgbClr val="ffffff"/>
                  </a:solidFill>
                  <a:latin typeface="VNI-Helve"/>
                </a:rPr>
                <a:t>                        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40000" y="3645000"/>
              <a:ext cx="69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59360" y="4373640"/>
            <a:ext cx="5768280" cy="1776960"/>
            <a:chOff x="459360" y="4373640"/>
            <a:chExt cx="5768280" cy="1776960"/>
          </a:xfrm>
        </p:grpSpPr>
        <p:grpSp>
          <p:nvGrpSpPr>
            <p:cNvPr id="584" name=""/>
            <p:cNvGrpSpPr/>
            <p:nvPr/>
          </p:nvGrpSpPr>
          <p:grpSpPr>
            <a:xfrm>
              <a:off x="1116000" y="4373640"/>
              <a:ext cx="5111640" cy="1776960"/>
              <a:chOff x="1116000" y="4373640"/>
              <a:chExt cx="5111640" cy="1776960"/>
            </a:xfrm>
          </p:grpSpPr>
          <p:sp>
            <p:nvSpPr>
              <p:cNvPr id="585" name=""/>
              <p:cNvSpPr/>
              <p:nvPr/>
            </p:nvSpPr>
            <p:spPr>
              <a:xfrm>
                <a:off x="4211280" y="4373640"/>
                <a:ext cx="45360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40000" y="5021280"/>
                <a:ext cx="92196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6000" y="4660920"/>
                <a:ext cx="511164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x - x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= v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t  +        at</a:t>
                </a:r>
                <a:r>
                  <a:rPr b="0" lang="en-US" sz="3400" spc="-1" strike="noStrike" baseline="30000">
                    <a:solidFill>
                      <a:srgbClr val="ffffff"/>
                    </a:solidFill>
                    <a:latin typeface="VNI-Helve"/>
                  </a:rPr>
                  <a:t>2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             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40000" y="5021280"/>
                <a:ext cx="698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59360" y="472140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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11095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Khi chaát ñieåm chæ chuyeån ñoäng theo chieàu döông thì quaõng ñöôøng “truøng” vôùi ñoä dôøi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971640" y="2421000"/>
            <a:ext cx="6769080" cy="1776960"/>
            <a:chOff x="971640" y="2421000"/>
            <a:chExt cx="6769080" cy="1776960"/>
          </a:xfrm>
        </p:grpSpPr>
        <p:grpSp>
          <p:nvGrpSpPr>
            <p:cNvPr id="593" name=""/>
            <p:cNvGrpSpPr/>
            <p:nvPr/>
          </p:nvGrpSpPr>
          <p:grpSpPr>
            <a:xfrm>
              <a:off x="2628720" y="2421000"/>
              <a:ext cx="5112000" cy="1776960"/>
              <a:chOff x="2628720" y="2421000"/>
              <a:chExt cx="5112000" cy="1776960"/>
            </a:xfrm>
          </p:grpSpPr>
          <p:sp>
            <p:nvSpPr>
              <p:cNvPr id="594" name=""/>
              <p:cNvSpPr/>
              <p:nvPr/>
            </p:nvSpPr>
            <p:spPr>
              <a:xfrm>
                <a:off x="5724360" y="2421000"/>
                <a:ext cx="45396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1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53080" y="306864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28720" y="2708280"/>
                <a:ext cx="5112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x - x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= v</a:t>
                </a:r>
                <a:r>
                  <a:rPr b="0" lang="en-US" sz="3400" spc="-1" strike="noStrike" baseline="-25000">
                    <a:solidFill>
                      <a:srgbClr val="ffffff"/>
                    </a:solidFill>
                    <a:latin typeface="VNI-Helve"/>
                  </a:rPr>
                  <a:t>0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t  +        at</a:t>
                </a:r>
                <a:r>
                  <a:rPr b="0" lang="en-US" sz="3400" spc="-1" strike="noStrike" baseline="30000">
                    <a:solidFill>
                      <a:srgbClr val="ffffff"/>
                    </a:solidFill>
                    <a:latin typeface="VNI-Helve"/>
                  </a:rPr>
                  <a:t>2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             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53080" y="306864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971640" y="2741400"/>
              <a:ext cx="17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NI-Helve"/>
                </a:rPr>
                <a:t>s = 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ffff"/>
                  </a:solidFill>
                  <a:latin typeface="VNI-Helve"/>
                </a:rPr>
                <a:t>x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7402680" y="263700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322884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Maët khaùc ta coù coâng thöùc vaän toác töùc thôøi taïi thôøi ñieåm t cuûa chaát ñieåm chuyeån ñoäng thaúng bieán ñoåi ñeàu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52000" y="5013000"/>
            <a:ext cx="281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NI-Helve"/>
              </a:rPr>
              <a:t>v  =  v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NI-Helve"/>
              </a:rPr>
              <a:t>  +  at</a:t>
            </a:r>
            <a:r>
              <a:rPr b="1" lang="en-US" sz="36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387680" y="508176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6360" y="18900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VNI-Helve"/>
              </a:rPr>
              <a:t>2) COÂNG THÖÙC LIEÂN HEÄ  GIÖÕA ÑOÄ DÔØI, VAÄN TOÁC VAØ GIA TOÁ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9080" y="1556280"/>
            <a:ext cx="56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Keát hôïp  (2) vaø (1) ta coù :</a:t>
            </a: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7440" y="3754800"/>
            <a:ext cx="4805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Neáu 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=  0  thì 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25040" y="4437000"/>
            <a:ext cx="18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Helv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=  2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67440" y="554832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t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348000" y="5189400"/>
            <a:ext cx="1406520" cy="1859400"/>
            <a:chOff x="3348000" y="5189400"/>
            <a:chExt cx="1406520" cy="1859400"/>
          </a:xfrm>
        </p:grpSpPr>
        <p:grpSp>
          <p:nvGrpSpPr>
            <p:cNvPr id="609" name=""/>
            <p:cNvGrpSpPr/>
            <p:nvPr/>
          </p:nvGrpSpPr>
          <p:grpSpPr>
            <a:xfrm>
              <a:off x="3759120" y="5271840"/>
              <a:ext cx="995400" cy="1776960"/>
              <a:chOff x="3759120" y="5271840"/>
              <a:chExt cx="995400" cy="1776960"/>
            </a:xfrm>
          </p:grpSpPr>
          <p:sp>
            <p:nvSpPr>
              <p:cNvPr id="610" name=""/>
              <p:cNvSpPr/>
              <p:nvPr/>
            </p:nvSpPr>
            <p:spPr>
              <a:xfrm>
                <a:off x="3830400" y="5271840"/>
                <a:ext cx="9241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2s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759120" y="5919480"/>
                <a:ext cx="92232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1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 </a:t>
                </a:r>
                <a:r>
                  <a:rPr b="0" lang="en-US" sz="3400" spc="-1" strike="noStrike">
                    <a:solidFill>
                      <a:srgbClr val="ffffff"/>
                    </a:solidFill>
                    <a:latin typeface="VNI-Helve"/>
                  </a:rPr>
                  <a:t>a           </a:t>
                </a:r>
                <a:endParaRPr b="0" lang="en-US" sz="3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59120" y="5919480"/>
                <a:ext cx="6984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348000" y="5189400"/>
              <a:ext cx="1190520" cy="1162080"/>
            </a:xfrm>
            <a:custGeom>
              <a:avLst/>
              <a:gdLst/>
              <a:ahLst/>
              <a:rect l="l" t="t" r="r" b="b"/>
              <a:pathLst>
                <a:path w="750" h="732">
                  <a:moveTo>
                    <a:pt x="0" y="299"/>
                  </a:moveTo>
                  <a:lnTo>
                    <a:pt x="126" y="732"/>
                  </a:lnTo>
                  <a:lnTo>
                    <a:pt x="246" y="0"/>
                  </a:lnTo>
                  <a:lnTo>
                    <a:pt x="75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495440" y="5276880"/>
            <a:ext cx="106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Helve"/>
              </a:rPr>
              <a:t>va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042920" y="2349360"/>
            <a:ext cx="4176720" cy="1223640"/>
            <a:chOff x="1042920" y="2349360"/>
            <a:chExt cx="4176720" cy="1223640"/>
          </a:xfrm>
        </p:grpSpPr>
        <p:sp>
          <p:nvSpPr>
            <p:cNvPr id="616" name=""/>
            <p:cNvSpPr/>
            <p:nvPr/>
          </p:nvSpPr>
          <p:spPr>
            <a:xfrm>
              <a:off x="1258920" y="2523960"/>
              <a:ext cx="38894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v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 – v</a:t>
              </a:r>
              <a:r>
                <a:rPr b="0" lang="en-US" sz="4400" spc="-1" strike="noStrike" baseline="-25000">
                  <a:solidFill>
                    <a:srgbClr val="ffffff"/>
                  </a:solidFill>
                  <a:latin typeface="VNI-Helve"/>
                </a:rPr>
                <a:t>0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VNI-Helve"/>
                </a:rPr>
                <a:t>2</a:t>
              </a:r>
              <a:r>
                <a:rPr b="0" lang="en-US" sz="4400" spc="-1" strike="noStrike">
                  <a:solidFill>
                    <a:srgbClr val="ffffff"/>
                  </a:solidFill>
                  <a:latin typeface="VNI-Helve"/>
                </a:rPr>
                <a:t> = 2as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42920" y="2349360"/>
              <a:ext cx="4176720" cy="1223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VNI-Times"/>
              </a:rPr>
              <a:t>Caâu 2 : Chuyeån ñoäng cuûa vaät naøo sau ñaây laø tònh tieán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Baùnh xe oâ toâ ñang chuyeån ñoäng treân ñöôøng thaú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Truïc baùnh xe oâ toâ ñang chuyeån ñoäng treân ñöôøng thaú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Pit toâng xi lanh ñoäng cô oâ toâ ñang chaïy treân ñöôøng voøng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Kim ñoàng hoà ñang chaïy. 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VNI-Times"/>
              </a:rPr>
              <a:t>Caâu 3 : Trong chuyeån ñoäng thaúng bieán ñoåi ñeàu, caâu naøo sau ñaây laø ñuùng?</a:t>
            </a:r>
            <a:endParaRPr b="1" lang="en-US" sz="40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Gia toác laø ñaïi löôïng bieán ñoåi ñeàu theo 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Gia toác cuûa chuyeån ñoäng baèng heä soá goùc cuûa ñoà thò vaän toác-thôøi gian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eáu vaän toác v cuøng daáu vôùi gia toác a thì ñoù laø chuyeån ñoäng chaäm daàn ñeàu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eáu vec tô vaän toác ngöôïc chieàu vec tô gia toác thì ñoù laø chuyeån ñoäng nhanh daàn ñeàu.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NI-Times"/>
              </a:rPr>
              <a:t>Caâu 4: Moät oâ toâ ñang chaïy treân ñöôøng thaúng vôùi vaän toác 25m/s, sau 2 s, vaän toác cuûa noù laø 72km/h. Gia toác trung bình cuûa oâ toâ trong khoaûng thôøi gian ñoù laø:</a:t>
            </a:r>
            <a:endParaRPr b="1" lang="en-US" sz="3600" spc="-1" strike="noStrike">
              <a:solidFill>
                <a:srgbClr val="e5e5ff"/>
              </a:solidFill>
              <a:latin typeface="VNI-Time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24000" y="3284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2,0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-2,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3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NI-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- 2,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6732720" y="551664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Ñaùp a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700360" y="981000"/>
            <a:ext cx="3240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Ñaùp aùn :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1C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2B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3B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VNI-Times"/>
              </a:rPr>
              <a:t>4D</a:t>
            </a:r>
            <a:endParaRPr b="0" lang="en-US" sz="4000" spc="-1" strike="noStrike">
              <a:solidFill>
                <a:srgbClr val="ffffff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5280" y="66600"/>
            <a:ext cx="2016000" cy="173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VNI-Times"/>
              </a:rPr>
              <a:t>Baøi 5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5280" y="242100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NI-Helve"/>
              </a:rPr>
              <a:t>CHUYEÅN ÑOÄNG THAÚ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NI-Helve"/>
              <a:ea typeface="VNI-Helv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00000" y="4149720"/>
            <a:ext cx="712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VNI-Helve"/>
              </a:rPr>
              <a:t>BIEÁN ÑOÅI ÑEÀ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VNI-Helve"/>
              <a:ea typeface="VNI-Helv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41300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VNI-Ariston"/>
              </a:rPr>
              <a:t>Phöông Trìn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VNI-Ariston"/>
              <a:ea typeface="VNI-Aristo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7093080" y="765000"/>
            <a:ext cx="718920" cy="79236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92360"/>
              <a:gd name="textAreaBottom" fmla="*/ 745920 h 792360"/>
            </a:gdLst>
            <a:ahLst/>
            <a:rect l="textAreaLeft" t="textAreaTop" r="textAreaRight" b="textAreaBottom"/>
            <a:pathLst>
              <a:path w="21600" h="23805">
                <a:moveTo>
                  <a:pt x="0" y="0"/>
                </a:moveTo>
                <a:lnTo>
                  <a:pt x="21600" y="0"/>
                </a:lnTo>
                <a:lnTo>
                  <a:pt x="21600" y="23805"/>
                </a:lnTo>
                <a:lnTo>
                  <a:pt x="0" y="23805"/>
                </a:lnTo>
                <a:close/>
              </a:path>
              <a:path fill="lightenLess" w="21600" h="238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05">
                <a:moveTo>
                  <a:pt x="21600" y="0"/>
                </a:moveTo>
                <a:lnTo>
                  <a:pt x="21600" y="23805"/>
                </a:lnTo>
                <a:lnTo>
                  <a:pt x="20200" y="22405"/>
                </a:lnTo>
                <a:lnTo>
                  <a:pt x="20200" y="1400"/>
                </a:lnTo>
                <a:close/>
              </a:path>
              <a:path fill="darkenLess" w="21600" h="23805">
                <a:moveTo>
                  <a:pt x="21600" y="23805"/>
                </a:moveTo>
                <a:lnTo>
                  <a:pt x="0" y="23805"/>
                </a:lnTo>
                <a:lnTo>
                  <a:pt x="1400" y="22405"/>
                </a:lnTo>
                <a:lnTo>
                  <a:pt x="20200" y="22405"/>
                </a:lnTo>
                <a:close/>
              </a:path>
              <a:path fill="lighten" w="21600" h="23805">
                <a:moveTo>
                  <a:pt x="0" y="238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05"/>
                </a:lnTo>
                <a:close/>
              </a:path>
              <a:path fill="darken" w="21600" h="23805">
                <a:moveTo>
                  <a:pt x="10800" y="159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805">
                <a:moveTo>
                  <a:pt x="11905" y="15384"/>
                </a:moveTo>
                <a:lnTo>
                  <a:pt x="11905" y="13426"/>
                </a:lnTo>
                <a:cubicBezTo>
                  <a:pt x="11905" y="12599"/>
                  <a:pt x="12236" y="11903"/>
                  <a:pt x="12837" y="11903"/>
                </a:cubicBezTo>
                <a:cubicBezTo>
                  <a:pt x="13968" y="11903"/>
                  <a:pt x="14865" y="10536"/>
                  <a:pt x="14865" y="8952"/>
                </a:cubicBezTo>
                <a:cubicBezTo>
                  <a:pt x="14865" y="6637"/>
                  <a:pt x="13011" y="4896"/>
                  <a:pt x="10800" y="4896"/>
                </a:cubicBezTo>
                <a:cubicBezTo>
                  <a:pt x="8589" y="4896"/>
                  <a:pt x="6918" y="6637"/>
                  <a:pt x="6918" y="8952"/>
                </a:cubicBezTo>
                <a:lnTo>
                  <a:pt x="8772" y="8952"/>
                </a:lnTo>
                <a:cubicBezTo>
                  <a:pt x="8772" y="7812"/>
                  <a:pt x="9695" y="6924"/>
                  <a:pt x="10800" y="6924"/>
                </a:cubicBezTo>
                <a:cubicBezTo>
                  <a:pt x="11905" y="6924"/>
                  <a:pt x="12837" y="7812"/>
                  <a:pt x="12837" y="8952"/>
                </a:cubicBezTo>
                <a:cubicBezTo>
                  <a:pt x="12837" y="9692"/>
                  <a:pt x="12367" y="10423"/>
                  <a:pt x="11905" y="10423"/>
                </a:cubicBezTo>
                <a:cubicBezTo>
                  <a:pt x="10800" y="10423"/>
                  <a:pt x="9695" y="11903"/>
                  <a:pt x="9695" y="13426"/>
                </a:cubicBezTo>
                <a:lnTo>
                  <a:pt x="9695" y="15384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39640" y="692280"/>
            <a:ext cx="8064720" cy="4608360"/>
          </a:xfrm>
          <a:prstGeom prst="cloudCallout">
            <a:avLst>
              <a:gd name="adj1" fmla="val -35041"/>
              <a:gd name="adj2" fmla="val 63745"/>
            </a:avLst>
          </a:prstGeom>
          <a:solidFill>
            <a:srgbClr val="0066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Phöông trình chuyeån ñoäng thaúng ñeàu coù daïng nhö theá naø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6227640" y="5589720"/>
            <a:ext cx="2376720" cy="7189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71384" h="21600">
                <a:moveTo>
                  <a:pt x="0" y="0"/>
                </a:moveTo>
                <a:lnTo>
                  <a:pt x="71384" y="0"/>
                </a:lnTo>
                <a:lnTo>
                  <a:pt x="71384" y="21600"/>
                </a:lnTo>
                <a:lnTo>
                  <a:pt x="0" y="21600"/>
                </a:lnTo>
                <a:close/>
              </a:path>
              <a:path fill="lightenLess" w="71384" h="21600">
                <a:moveTo>
                  <a:pt x="0" y="0"/>
                </a:moveTo>
                <a:lnTo>
                  <a:pt x="71384" y="0"/>
                </a:lnTo>
                <a:lnTo>
                  <a:pt x="69984" y="1400"/>
                </a:lnTo>
                <a:lnTo>
                  <a:pt x="1400" y="1400"/>
                </a:lnTo>
                <a:close/>
              </a:path>
              <a:path fill="darken" w="71384" h="21600">
                <a:moveTo>
                  <a:pt x="71384" y="0"/>
                </a:moveTo>
                <a:lnTo>
                  <a:pt x="71384" y="21600"/>
                </a:lnTo>
                <a:lnTo>
                  <a:pt x="69984" y="20200"/>
                </a:lnTo>
                <a:lnTo>
                  <a:pt x="69984" y="1400"/>
                </a:lnTo>
                <a:close/>
              </a:path>
              <a:path fill="darkenLess" w="71384" h="21600">
                <a:moveTo>
                  <a:pt x="7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984" y="20200"/>
                </a:lnTo>
                <a:close/>
              </a:path>
              <a:path fill="lighten" w="7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"/>
              </a:rPr>
              <a:t>Traû lôø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0:07:27Z</dcterms:created>
  <dc:creator>Do Hieu Thao</dc:creator>
  <dc:description/>
  <dc:language>en-US</dc:language>
  <cp:lastModifiedBy>User</cp:lastModifiedBy>
  <dcterms:modified xsi:type="dcterms:W3CDTF">2010-09-06T05:16:01Z</dcterms:modified>
  <cp:revision>178</cp:revision>
  <dc:subject/>
  <dc:title>Slide 1</dc:title>
</cp:coreProperties>
</file>