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08FB-4CE6-48CE-8E2C-B16875DA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9D64-759C-4F98-8F39-26578411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431-0322-46E3-B983-82667C5B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B66-63D1-4C05-BF38-F245F299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0341-4D08-4EBE-803D-69F35ECB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BD2-1C1B-4A83-82A6-82801006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A2B-02E6-44C0-9B2F-50CF0D63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153B-9E63-45F1-A5FB-65C35F3E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F1C-1C49-48A7-89B0-A5A724AD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82B-47A8-4483-8132-99CE51D4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6F5C-4A46-4FEB-860A-45303F2A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589-0EFC-4383-9B74-959031BA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8DF0B-B1F4-4263-AE43-99CADBCE84E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9F510-DA9A-49F2-830C-EEBCB08C2F6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4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Picture 4" descr="167-1-1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4" descr="167-1-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4" descr="167-후렴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4" descr="167-2-1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4" descr="167-2-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Picture 4" descr="167-후렴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" name="Picture 4" descr="167-3-1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3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6" name="Picture 9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9" name="Picture 12" descr=""/>
            <p:cNvPicPr/>
            <p:nvPr/>
          </p:nvPicPr>
          <p:blipFill>
            <a:blip r:embed="rId3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Picture 4" descr="167-3-2 copy"/>
          <p:cNvPicPr/>
          <p:nvPr/>
        </p:nvPicPr>
        <p:blipFill>
          <a:blip r:embed="rId4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3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6" name="Picture 9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9" name="Picture 12" descr=""/>
            <p:cNvPicPr/>
            <p:nvPr/>
          </p:nvPicPr>
          <p:blipFill>
            <a:blip r:embed="rId3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1" name="Picture 4" descr="167-후렴끝 copy"/>
          <p:cNvPicPr/>
          <p:nvPr/>
        </p:nvPicPr>
        <p:blipFill>
          <a:blip r:embed="rId4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7:34:56Z</dcterms:created>
  <dc:creator>최봉수</dc:creator>
  <dc:description/>
  <dc:language>en-US</dc:language>
  <cp:lastModifiedBy>강남대청어린이부</cp:lastModifiedBy>
  <dcterms:modified xsi:type="dcterms:W3CDTF">2024-07-07T07:06:17Z</dcterms:modified>
  <cp:revision>4</cp:revision>
  <dc:subject/>
  <dc:title>슬라이드 1</dc:title>
</cp:coreProperties>
</file>