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3DC-EE27-4F07-AAFC-B2704410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305-7C9A-44DE-A2A8-E0F1FE5E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89F-D8F9-4AC0-B4E3-904DE480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1B3-E004-49BF-93D0-AC11C3D6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C3B-9F36-4095-8DD4-1D992940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BED-ED4E-4D26-8637-9C94B04A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ADF-D6D5-4E83-B3DC-A39E8B00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79D-3032-46CB-B70E-06488210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39F-F9C0-4146-97E6-9D597751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4F9-D166-4F73-BC1F-7963B9D8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DC6-5802-4C3F-BF10-F1719235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A8F-141A-4583-B0BC-DDB0556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7D3CB-0C6E-4CA0-84B5-F4DBAA3DFC4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960D9-4DC3-40D6-BDB4-FF69AC281D1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167-1-1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167-1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167-후렴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167-2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167-2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167-후렴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4" descr="167-3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4" descr="167-3-2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Picture 4" descr="167-후렴끝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강남대청어린이부</cp:lastModifiedBy>
  <dcterms:modified xsi:type="dcterms:W3CDTF">2024-07-07T07:06:17Z</dcterms:modified>
  <cp:revision>4</cp:revision>
  <dc:subject/>
  <dc:title>슬라이드 1</dc:title>
</cp:coreProperties>
</file>