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9DB0-7436-4086-B8A9-2677E7897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249B-C900-4C1E-A4BF-4A4E02F6C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23F9-805D-4FE2-AAAF-9FF5082A1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8726-FC74-4C13-AAB3-09F4E0EF5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C27C-F53E-4247-9248-C75556A27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AB96-BB27-4DCF-BF93-E45A7D8B7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441B-3C0F-4C58-B840-7E1BE8FA8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EBA0-D5F2-4572-8E7F-D82155CCD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AD50-9B21-4FEE-A33C-6BBA0C71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5AC4-2F4F-48EC-A0F0-46982FA56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C19D-9936-41EF-AC34-0A585E74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5874-318A-4719-B9B3-57655AA7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F5E3A-5DCC-4FD8-AAAF-05FEA07ABE58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5.xml"/><Relationship Id="rId3" Type="http://schemas.openxmlformats.org/officeDocument/2006/relationships/image" Target="../media/image7.jpeg"/><Relationship Id="rId4" Type="http://schemas.openxmlformats.org/officeDocument/2006/relationships/slide" Target="slide7.xml"/><Relationship Id="rId5" Type="http://schemas.openxmlformats.org/officeDocument/2006/relationships/image" Target="../media/image8.jpeg"/><Relationship Id="rId6" Type="http://schemas.openxmlformats.org/officeDocument/2006/relationships/slide" Target="slide2.xml"/><Relationship Id="rId7" Type="http://schemas.openxmlformats.org/officeDocument/2006/relationships/image" Target="../media/image7.jpeg"/><Relationship Id="rId8" Type="http://schemas.openxmlformats.org/officeDocument/2006/relationships/hyperlink" Target="file:///../&#1601;&#1607;&#1585;&#1587;%20&#1575;&#1604;&#1578;&#1585;&#1575;&#1606;&#1610;&#1605;.pps" TargetMode="External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9360" y="-14400"/>
            <a:ext cx="9162720" cy="6886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09480" y="1477800"/>
            <a:ext cx="4378320" cy="44816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يا ملك الملوك عزاً وسجود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535200"/>
            <a:ext cx="4724280" cy="2287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لاسمك المهوب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76320" y="1187280"/>
            <a:ext cx="9144000" cy="21034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ترتج الجبال من صوتك يا الله</a:t>
            </a:r>
            <a:r>
              <a:rPr b="1" lang="en-US" sz="66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76320" y="2330280"/>
            <a:ext cx="9144000" cy="21034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تخضع الشعوب لسلطانك</a:t>
            </a:r>
            <a:r>
              <a:rPr b="1" lang="en-US" sz="66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c5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720800"/>
            <a:ext cx="9144000" cy="21034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تنحني بخشوع كل ركبة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863800"/>
            <a:ext cx="9144000" cy="10980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عند أقدامك يا الله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9360" y="-14400"/>
            <a:ext cx="9162720" cy="68868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04920" y="1096920"/>
            <a:ext cx="4378320" cy="44816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يا ملك الملوك عزاً وسجود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280" y="3154320"/>
            <a:ext cx="4724640" cy="2287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لاسمك المهوب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-152280" y="1522440"/>
            <a:ext cx="9144000" cy="21034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معتزاً بالكرامة لابس الجلال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-152280" y="2635200"/>
            <a:ext cx="9144000" cy="10980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اسمك مهوب يا إلهنا</a:t>
            </a:r>
            <a:r>
              <a:rPr b="1" lang="en-US" sz="66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-228600" y="1568520"/>
            <a:ext cx="9144000" cy="21034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عظيم مجيد سيد الأكوان</a:t>
            </a:r>
            <a:r>
              <a:rPr b="1" lang="en-US" sz="66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2787480"/>
            <a:ext cx="9144000" cy="10980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لك سجودنا يا الله</a:t>
            </a:r>
            <a:r>
              <a:rPr b="1" lang="en-US" sz="66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-9360" y="-14400"/>
            <a:ext cx="9162720" cy="6886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04920" y="1096920"/>
            <a:ext cx="4378320" cy="44816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يا ملك الملوك عزاً وسجود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3154320"/>
            <a:ext cx="4724640" cy="2287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لاسمك المهوب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68" name="">
            <a:hlinkClick r:id="rId2" action="ppaction://hlinksldjump"/>
          </p:cNvPr>
          <p:cNvSpPr/>
          <p:nvPr/>
        </p:nvSpPr>
        <p:spPr>
          <a:xfrm>
            <a:off x="5292720" y="1413000"/>
            <a:ext cx="3816360" cy="707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ar-EG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</a:t>
            </a:r>
            <a:r>
              <a:rPr b="1" lang="ar-SA" sz="4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معتزا بالكرام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4" action="ppaction://hlinksldjump"/>
          </p:cNvPr>
          <p:cNvSpPr/>
          <p:nvPr/>
        </p:nvSpPr>
        <p:spPr>
          <a:xfrm>
            <a:off x="108000" y="1281240"/>
            <a:ext cx="4176720" cy="707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EG" sz="40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قرار : </a:t>
            </a:r>
            <a:r>
              <a:rPr b="1" lang="ar-SA" sz="40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يا ملك الملوك</a:t>
            </a:r>
            <a:r>
              <a:rPr b="1" lang="ar-EG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6" action="ppaction://hlinksldjump"/>
          </p:cNvPr>
          <p:cNvSpPr/>
          <p:nvPr/>
        </p:nvSpPr>
        <p:spPr>
          <a:xfrm>
            <a:off x="5292720" y="417600"/>
            <a:ext cx="3816360" cy="7077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ar-EG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</a:t>
            </a:r>
            <a:r>
              <a:rPr b="1" lang="ar-SA" sz="4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ترتج الجبا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92">
            <a:hlinkClick r:id="rId8"/>
          </p:cNvPr>
          <p:cNvSpPr/>
          <p:nvPr/>
        </p:nvSpPr>
        <p:spPr>
          <a:xfrm>
            <a:off x="900000" y="260280"/>
            <a:ext cx="2448000" cy="11912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  <a:effectLst>
            <a:outerShdw dist="28496" dir="92255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ff"/>
                </a:solidFill>
                <a:latin typeface="Arial"/>
                <a:cs typeface="Arabic Transparent"/>
              </a:rPr>
              <a:t>فهرس التراني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3T23:30:59Z</dcterms:created>
  <dc:creator>FOFO</dc:creator>
  <dc:description/>
  <dc:language>en-US</dc:language>
  <cp:lastModifiedBy>Sp2</cp:lastModifiedBy>
  <dcterms:modified xsi:type="dcterms:W3CDTF">2008-09-09T13:30:39Z</dcterms:modified>
  <cp:revision>10</cp:revision>
  <dc:subject/>
  <dc:title>الشريحة 1</dc:title>
</cp:coreProperties>
</file>