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838-617D-4A2D-A737-2EC792CA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180-6B79-475A-BAE4-7D8A85B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9DF-FFFE-4668-A5AF-F173497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EFA-194D-4D87-968C-9F3E2B0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085-E6C2-4491-933A-98E99600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BAF-904B-4B88-B32C-88CB82D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ADF-87A8-4A25-90FE-6E3A1E6A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33B-97B1-4392-A989-75A1672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FB0-15CE-45A7-B553-7DEDC02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409-A886-4984-B03E-380FDDB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047-0A9F-4757-AC00-80519B0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6D9-46CD-4935-A564-802BF23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278-EBE0-48AD-B6F0-9D893AAA0DB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image" Target="../media/image7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47780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35200"/>
            <a:ext cx="472428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76320" y="118728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رتج الجبال من صوتك يا الله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6320" y="233028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خضع الشعوب لسلطان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5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2080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نحني بخشوع كل ركب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6380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عند أقدامك يا الل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09692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154320"/>
            <a:ext cx="472464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52280" y="152244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عتزاً بالكرامة لابس الجلا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52280" y="263520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سمك مهوب يا إلهنا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156852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عظيم مجيد سيد الأكوان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78748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ك سجودنا يا الله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109692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154320"/>
            <a:ext cx="472464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تزا بالكر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ا ملك الملو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رتج الجب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3:30:59Z</dcterms:created>
  <dc:creator>FOFO</dc:creator>
  <dc:description/>
  <dc:language>en-US</dc:language>
  <cp:lastModifiedBy>Sp2</cp:lastModifiedBy>
  <dcterms:modified xsi:type="dcterms:W3CDTF">2008-09-09T13:30:39Z</dcterms:modified>
  <cp:revision>10</cp:revision>
  <dc:subject/>
  <dc:title>الشريحة 1</dc:title>
</cp:coreProperties>
</file>